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rowth of E. faecium (A), E. faecalis (B), and mixed E. faecalis and E. faecium (C) on BBL CHROMagar Van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8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rowth of E. faecium (A), E. faecalis (B), and mixed E. faecalis and E. faecium (C) on BBL CHROMagar Van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40" y="6659640"/>
            <a:ext cx="10044000" cy="90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739800" y="2216160"/>
            <a:ext cx="8604360" cy="3119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allstrom G et al. J. Clin. Microbiol. 2010;48:999-1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</cp:lastModifiedBy>
  <dcterms:modified xsi:type="dcterms:W3CDTF">2014-03-14T21:44:52Z</dcterms:modified>
  <cp:revision>1</cp:revision>
  <dc:subject/>
  <dc:title>PowerPoint Presentation</dc:title>
</cp:coreProperties>
</file>