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1"/>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presentative RAPD profiles from pools of H. pylori colonies (lanes P) and from individual single colonies (lanes 1 though 5) from child-mother pairs from individual households. The sequences of the four RAPD primers used (primers 1254, 1281, 1283, and 1290) are given in Materials and Methods. (A) Profiles in which predominant strains from the child and mother are closely matched (as was seen in about 30% of the cases) and also the profile of a rare instance in which the child seemed to carry more than one strain in abundance (compare the pooled and the multiple single colonies). The glr gene fragments from the isolates from child 1 and mother 1 (767 bp) were 100% identical. (B) Profiles showing that predominant strains from the child and the mother are unrelated (as was seen in about 70% of the cases) and also that just one strain is predominant in each person. The glr gene fragments (768 bp) from the isolates child 1 and mother 1 were 3.4% divergent (26 base substitution differences), as is typical of unrelated strains (see Fig. 2).</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marL="108000" indent="0" algn="ctr">
              <a:lnSpc>
                <a:spcPct val="93000"/>
              </a:lnSpc>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marL="108000" algn="ctr">
              <a:lnSpc>
                <a:spcPct val="93000"/>
              </a:lnSpc>
              <a:spcAft>
                <a:spcPts val="88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1"/>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presentative RAPD profiles from pools of H. pylori colonies (lanes P) and from individual single colonies (lanes 1 though 5) from child-mother pairs from individual households. </a:t>
            </a:r>
            <a:endParaRPr b="0" lang="en-US" sz="1600" spc="-1" strike="noStrike">
              <a:solidFill>
                <a:srgbClr val="000000"/>
              </a:solidFill>
              <a:latin typeface="Times New Roman"/>
            </a:endParaRPr>
          </a:p>
        </p:txBody>
      </p:sp>
      <p:pic>
        <p:nvPicPr>
          <p:cNvPr id="42" name="Picture 2" descr=""/>
          <p:cNvPicPr/>
          <p:nvPr/>
        </p:nvPicPr>
        <p:blipFill>
          <a:blip r:embed="rId1"/>
          <a:stretch/>
        </p:blipFill>
        <p:spPr>
          <a:xfrm>
            <a:off x="3240" y="6659640"/>
            <a:ext cx="10044000" cy="900000"/>
          </a:xfrm>
          <a:prstGeom prst="rect">
            <a:avLst/>
          </a:prstGeom>
          <a:ln w="0">
            <a:noFill/>
          </a:ln>
        </p:spPr>
      </p:pic>
      <p:pic>
        <p:nvPicPr>
          <p:cNvPr id="43" name="Picture 3" descr=""/>
          <p:cNvPicPr/>
          <p:nvPr/>
        </p:nvPicPr>
        <p:blipFill>
          <a:blip r:embed="rId2"/>
          <a:stretch/>
        </p:blipFill>
        <p:spPr>
          <a:xfrm>
            <a:off x="2751120" y="1079640"/>
            <a:ext cx="4583160" cy="5394240"/>
          </a:xfrm>
          <a:prstGeom prst="rect">
            <a:avLst/>
          </a:prstGeom>
          <a:ln w="0">
            <a:noFill/>
          </a:ln>
        </p:spPr>
      </p:pic>
      <p:sp>
        <p:nvSpPr>
          <p:cNvPr id="44" name="Text Box 4"/>
          <p:cNvSpPr/>
          <p:nvPr/>
        </p:nvSpPr>
        <p:spPr>
          <a:xfrm>
            <a:off x="27511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errera P M et al. J. Clin. Microbiol. 2008;46:3912-3918</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est</cp:lastModifiedBy>
  <dcterms:modified xsi:type="dcterms:W3CDTF">2014-03-15T01:33:58Z</dcterms:modified>
  <cp:revision>1</cp:revision>
  <dc:subject/>
  <dc:title>PowerPoint Presentation</dc:title>
</cp:coreProperties>
</file>