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PC-specific PCR results generated from plasmid preparations of wild-type P. mirabilis (Pm), the TT host strain, and TT/pPmir. A fragment of the size expected (892 bp) was generated from wild-type P. mirabilis and the host strain transformed with the P. mirabilis KPC plasmid (pPmir) but not from the host st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PC-specific PCR results generated from plasmid preparations of wild-type P. mirabilis (Pm), the TT host strain, and TT/pPmi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" y="6659640"/>
            <a:ext cx="10044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9800" y="3025800"/>
            <a:ext cx="8604360" cy="1500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bbetts R et al. J. Clin. Microbiol. 2008;46:3080-3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