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B8B-D854-4892-A965-1E93508B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19C-7908-4973-A0C5-282543F2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B09-8152-4DFE-AE3F-FE93458F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109-B5D4-4121-ABBF-94379B2B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3D0-8636-447E-8957-21FA8046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CD3-02C9-41BF-BC3C-D669F5D3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581-FD3C-487F-A960-4B82673F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A3C-B06A-49C8-AD23-D2E42EC0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BEE-D017-44FD-8B16-07F97042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C30-4A76-41FA-BC1C-4A08A018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58E-B8A2-4D0F-9EEB-3C02890A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28D-10E7-46AA-8135-C3E7C7AF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A765-D8B9-4438-90A6-3A75708A4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4122720"/>
            <a:ext cx="685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 S1.  Short-term treatment of HeLa cells with Gö6976 or OA does not alter cell cycle profil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HeLa cells were left untreated (Control) or were incubated with 1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OA for 1 h , 1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Gö6976 for 1 h or 20 mM HU for 2 h. Alternatively, HeLa cells were incubated with 20 mM HU for 2 h, 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ulture media was removed and cells were incubated in complete media containing DMSO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OA or 1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Gö6976 for 1 h.  Cells were stained with propidium iodide and analyzed for DNA content by flow cytometry.  The percentage of cells in each stage of the cell cycle is indic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181480" y="604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. S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ng-Pineda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776160" y="2209680"/>
          <a:ext cx="5624640" cy="163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209680"/>
                    <a:ext cx="562464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792720" y="2006640"/>
            <a:ext cx="458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EMENTAL TABLE 1.  Cell cycle profiles of HeLa cells tre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HU, Gö6976 or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4840" t="16722" r="7251" b="16389"/>
          <a:stretch/>
        </p:blipFill>
        <p:spPr>
          <a:xfrm>
            <a:off x="2362320" y="1784520"/>
            <a:ext cx="1904760" cy="30456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2"/>
          <p:cNvGrpSpPr/>
          <p:nvPr/>
        </p:nvGrpSpPr>
        <p:grpSpPr>
          <a:xfrm>
            <a:off x="2362320" y="1398600"/>
            <a:ext cx="1904760" cy="304920"/>
            <a:chOff x="2362320" y="1398600"/>
            <a:chExt cx="1904760" cy="304920"/>
          </a:xfrm>
        </p:grpSpPr>
        <p:pic>
          <p:nvPicPr>
            <p:cNvPr id="48" name="Picture 2" descr=""/>
            <p:cNvPicPr/>
            <p:nvPr/>
          </p:nvPicPr>
          <p:blipFill>
            <a:blip r:embed="rId2"/>
            <a:srcRect l="11732" t="40276" r="9637" b="10501"/>
            <a:stretch/>
          </p:blipFill>
          <p:spPr>
            <a:xfrm>
              <a:off x="2362320" y="1398600"/>
              <a:ext cx="19047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5"/>
            <p:cNvSpPr/>
            <p:nvPr/>
          </p:nvSpPr>
          <p:spPr>
            <a:xfrm>
              <a:off x="2362320" y="1398600"/>
              <a:ext cx="19047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13"/>
          <p:cNvGrpSpPr/>
          <p:nvPr/>
        </p:nvGrpSpPr>
        <p:grpSpPr>
          <a:xfrm>
            <a:off x="2362320" y="1004760"/>
            <a:ext cx="1904760" cy="307800"/>
            <a:chOff x="2362320" y="1004760"/>
            <a:chExt cx="1904760" cy="307800"/>
          </a:xfrm>
        </p:grpSpPr>
        <p:pic>
          <p:nvPicPr>
            <p:cNvPr id="51" name="Picture 3" descr=""/>
            <p:cNvPicPr/>
            <p:nvPr/>
          </p:nvPicPr>
          <p:blipFill>
            <a:blip r:embed="rId3"/>
            <a:srcRect l="6859" t="13281" r="7365" b="33710"/>
            <a:stretch/>
          </p:blipFill>
          <p:spPr>
            <a:xfrm>
              <a:off x="2362320" y="1004760"/>
              <a:ext cx="19047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6"/>
            <p:cNvSpPr/>
            <p:nvPr/>
          </p:nvSpPr>
          <p:spPr>
            <a:xfrm>
              <a:off x="2362320" y="1008000"/>
              <a:ext cx="190476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7"/>
          <p:cNvSpPr/>
          <p:nvPr/>
        </p:nvSpPr>
        <p:spPr>
          <a:xfrm>
            <a:off x="2362320" y="1784520"/>
            <a:ext cx="19047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599480" y="144936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S317-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599480" y="105264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S345-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931400" y="183024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 rot="16116000">
            <a:off x="2442600" y="76356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U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052280" y="793800"/>
            <a:ext cx="123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ncentration (</a:t>
            </a: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)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771640" y="804960"/>
            <a:ext cx="113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.03  0.3   1   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962800" y="573120"/>
            <a:ext cx="54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ö697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 rot="16033800">
            <a:off x="2530080" y="68724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M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 rot="16123200">
            <a:off x="2202480" y="676440"/>
            <a:ext cx="52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6"/>
          <p:cNvSpPr/>
          <p:nvPr/>
        </p:nvSpPr>
        <p:spPr>
          <a:xfrm rot="5400000">
            <a:off x="3184920" y="514800"/>
            <a:ext cx="88920" cy="598680"/>
          </a:xfrm>
          <a:custGeom>
            <a:avLst/>
            <a:gdLst>
              <a:gd name="textAreaLeft" fmla="*/ 25920 w 88920"/>
              <a:gd name="textAreaRight" fmla="*/ 89280 w 88920"/>
              <a:gd name="textAreaTop" fmla="*/ 24840 h 598680"/>
              <a:gd name="textAreaBottom" fmla="*/ 573840 h 5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3454560" y="808200"/>
            <a:ext cx="11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.05  0.5   1  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3740040" y="57636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0"/>
          <p:cNvSpPr/>
          <p:nvPr/>
        </p:nvSpPr>
        <p:spPr>
          <a:xfrm rot="5400000">
            <a:off x="3868200" y="518040"/>
            <a:ext cx="88560" cy="598320"/>
          </a:xfrm>
          <a:custGeom>
            <a:avLst/>
            <a:gdLst>
              <a:gd name="textAreaLeft" fmla="*/ 25920 w 88560"/>
              <a:gd name="textAreaRight" fmla="*/ 88920 w 88560"/>
              <a:gd name="textAreaTop" fmla="*/ 24840 h 598320"/>
              <a:gd name="textAreaBottom" fmla="*/ 57348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8"/>
          <p:cNvSpPr/>
          <p:nvPr/>
        </p:nvSpPr>
        <p:spPr>
          <a:xfrm>
            <a:off x="2286000" y="2133720"/>
            <a:ext cx="32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    2    3    4    5     6    7    8    9  10 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1"/>
          <p:cNvSpPr/>
          <p:nvPr/>
        </p:nvSpPr>
        <p:spPr>
          <a:xfrm>
            <a:off x="-228600" y="53341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S1. Dose dependent inhibition of Chk1 dephosphorylation by Gö6976 and O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) HeLa cells were untreated (lane 1) or were incubated with 20 mM HU for 2 h to generate phosphorylated Chk1 (lanes 2-11).  The culture media was removed and cells were incubated in complete media containing DMSO (lane 3) or the indicated concentrations of either Gö6976 (lanes 3-7) or OA (lanes 8-11). Chk1 phosphorylation was monitored 1 hour after HU removal by Western blotting. (B) HeLa cells were treated as described in panel A except that the concentration of Gö6976 and OA were held constant and the time of incubation was vari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525600" y="152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81" descr=""/>
          <p:cNvPicPr/>
          <p:nvPr/>
        </p:nvPicPr>
        <p:blipFill>
          <a:blip r:embed="rId4"/>
          <a:srcRect l="3551" t="28476" r="4577" b="24109"/>
          <a:stretch/>
        </p:blipFill>
        <p:spPr>
          <a:xfrm>
            <a:off x="1778040" y="4111560"/>
            <a:ext cx="31240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2" descr=""/>
          <p:cNvPicPr/>
          <p:nvPr/>
        </p:nvPicPr>
        <p:blipFill>
          <a:blip r:embed="rId5"/>
          <a:srcRect l="2334" t="11239" r="1943" b="32567"/>
          <a:stretch/>
        </p:blipFill>
        <p:spPr>
          <a:xfrm>
            <a:off x="1778040" y="3648240"/>
            <a:ext cx="3124080" cy="380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3"/>
          <p:cNvSpPr/>
          <p:nvPr/>
        </p:nvSpPr>
        <p:spPr>
          <a:xfrm>
            <a:off x="1778040" y="3648240"/>
            <a:ext cx="31240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4"/>
          <p:cNvSpPr/>
          <p:nvPr/>
        </p:nvSpPr>
        <p:spPr>
          <a:xfrm>
            <a:off x="907560" y="3763800"/>
            <a:ext cx="78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S345-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5"/>
          <p:cNvSpPr/>
          <p:nvPr/>
        </p:nvSpPr>
        <p:spPr>
          <a:xfrm>
            <a:off x="1245600" y="418140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h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86"/>
          <p:cNvSpPr/>
          <p:nvPr/>
        </p:nvSpPr>
        <p:spPr>
          <a:xfrm>
            <a:off x="1778040" y="4113360"/>
            <a:ext cx="31240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7"/>
          <p:cNvSpPr/>
          <p:nvPr/>
        </p:nvSpPr>
        <p:spPr>
          <a:xfrm rot="16116000">
            <a:off x="1922040" y="3380760"/>
            <a:ext cx="35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HU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8"/>
          <p:cNvSpPr/>
          <p:nvPr/>
        </p:nvSpPr>
        <p:spPr>
          <a:xfrm rot="16123200">
            <a:off x="1678680" y="3297600"/>
            <a:ext cx="52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9"/>
          <p:cNvSpPr/>
          <p:nvPr/>
        </p:nvSpPr>
        <p:spPr>
          <a:xfrm>
            <a:off x="903600" y="3417840"/>
            <a:ext cx="79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ime (min)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0"/>
          <p:cNvSpPr/>
          <p:nvPr/>
        </p:nvSpPr>
        <p:spPr>
          <a:xfrm>
            <a:off x="2082960" y="3429000"/>
            <a:ext cx="113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5  30   45    60   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2414520" y="319716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M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92"/>
          <p:cNvSpPr/>
          <p:nvPr/>
        </p:nvSpPr>
        <p:spPr>
          <a:xfrm rot="5400000">
            <a:off x="2606760" y="3029040"/>
            <a:ext cx="101520" cy="831600"/>
          </a:xfrm>
          <a:custGeom>
            <a:avLst/>
            <a:gdLst>
              <a:gd name="textAreaLeft" fmla="*/ 29880 w 101520"/>
              <a:gd name="textAreaRight" fmla="*/ 101880 w 101520"/>
              <a:gd name="textAreaTop" fmla="*/ 34560 h 831600"/>
              <a:gd name="textAreaBottom" fmla="*/ 79704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3"/>
          <p:cNvSpPr/>
          <p:nvPr/>
        </p:nvSpPr>
        <p:spPr>
          <a:xfrm>
            <a:off x="2971800" y="3429000"/>
            <a:ext cx="113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5  30   45    60   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4"/>
          <p:cNvSpPr/>
          <p:nvPr/>
        </p:nvSpPr>
        <p:spPr>
          <a:xfrm>
            <a:off x="3134880" y="3193920"/>
            <a:ext cx="90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ö6976 (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95"/>
          <p:cNvSpPr/>
          <p:nvPr/>
        </p:nvSpPr>
        <p:spPr>
          <a:xfrm rot="5400000">
            <a:off x="3495240" y="3028680"/>
            <a:ext cx="101520" cy="831960"/>
          </a:xfrm>
          <a:custGeom>
            <a:avLst/>
            <a:gdLst>
              <a:gd name="textAreaLeft" fmla="*/ 29880 w 101520"/>
              <a:gd name="textAreaRight" fmla="*/ 101880 w 101520"/>
              <a:gd name="textAreaTop" fmla="*/ 34560 h 831960"/>
              <a:gd name="textAreaBottom" fmla="*/ 797400 h 8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6"/>
          <p:cNvSpPr/>
          <p:nvPr/>
        </p:nvSpPr>
        <p:spPr>
          <a:xfrm>
            <a:off x="3848040" y="3422520"/>
            <a:ext cx="113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5  30   45    60   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7"/>
          <p:cNvSpPr/>
          <p:nvPr/>
        </p:nvSpPr>
        <p:spPr>
          <a:xfrm>
            <a:off x="4108680" y="3187800"/>
            <a:ext cx="71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A (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98"/>
          <p:cNvSpPr/>
          <p:nvPr/>
        </p:nvSpPr>
        <p:spPr>
          <a:xfrm rot="5400000">
            <a:off x="4371480" y="3022560"/>
            <a:ext cx="101880" cy="831960"/>
          </a:xfrm>
          <a:custGeom>
            <a:avLst/>
            <a:gdLst>
              <a:gd name="textAreaLeft" fmla="*/ 29880 w 101880"/>
              <a:gd name="textAreaRight" fmla="*/ 102240 w 101880"/>
              <a:gd name="textAreaTop" fmla="*/ 34560 h 831960"/>
              <a:gd name="textAreaBottom" fmla="*/ 797400 h 8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9"/>
          <p:cNvSpPr/>
          <p:nvPr/>
        </p:nvSpPr>
        <p:spPr>
          <a:xfrm>
            <a:off x="1778040" y="4498920"/>
            <a:ext cx="32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    2    3    4    5     6    7    8    9   10 11   12  13  14  15  16   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0"/>
          <p:cNvSpPr/>
          <p:nvPr/>
        </p:nvSpPr>
        <p:spPr>
          <a:xfrm>
            <a:off x="268560" y="2898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2"/>
          <p:cNvSpPr/>
          <p:nvPr/>
        </p:nvSpPr>
        <p:spPr>
          <a:xfrm>
            <a:off x="5181480" y="604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. S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ng-Pineda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5:36:34Z</dcterms:created>
  <dc:creator>HPW</dc:creator>
  <dc:description/>
  <dc:language>en-US</dc:language>
  <cp:lastModifiedBy>Potts, Nathaniel</cp:lastModifiedBy>
  <cp:lastPrinted>2006-06-20T18:40:00Z</cp:lastPrinted>
  <dcterms:modified xsi:type="dcterms:W3CDTF">2014-07-30T01:44:32Z</dcterms:modified>
  <cp:revision>29</cp:revision>
  <dc:subject/>
  <dc:title>PowerPoint Presentation</dc:title>
</cp:coreProperties>
</file>