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74DF9-7B74-457B-8EFE-F0D57449D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AD4CF-873B-479A-8053-46E8AB002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7B2E2-0584-4391-80AF-5C492C901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AEE90-11B9-4C52-906C-0EE8A4DAF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CFBF0-086B-4B75-9F6B-5CE4941D9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C9498-113D-483F-8CE4-6597B326A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59BCD-041C-4649-A76B-7E6D159E8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73F73-F513-4DAD-B0A3-17E55C01C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76EA8-7FB9-4C76-8703-7BBD7B03B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92F7D-2DAB-4B98-9BE5-D6BA67409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43DE8-A80A-4CD4-8F3A-CFD89AE44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19444-073E-458A-B14D-59366F9C0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0E000-18EE-4786-81F6-CFC0AA0E7F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0" y="4122720"/>
            <a:ext cx="685800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able S1.  Short-term treatment of HeLa cells with Gö6976 or OA does not alter cell cycle profiles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HeLa cells were left untreated (Control) or were incubated with 1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 OA for 1 h , 1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 Gö6976 for 1 h or 20 mM HU for 2 h. Alternatively, HeLa cells were incubated with 20 mM HU for 2 h, 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culture media was removed and cells were incubated in complete media containing DMSO or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 OA or 1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 Gö6976 for 1 h.  Cells were stained with propidium iodide and analyzed for DNA content by flow cytometry.  The percentage of cells in each stage of the cell cycle is indica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5181480" y="60480"/>
            <a:ext cx="1600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AB. S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ung-Pineda et 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" name="Object 4"/>
          <p:cNvGraphicFramePr/>
          <p:nvPr/>
        </p:nvGraphicFramePr>
        <p:xfrm>
          <a:off x="776160" y="2209680"/>
          <a:ext cx="5624640" cy="1630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6160" y="2209680"/>
                    <a:ext cx="5624640" cy="163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Text Box 5"/>
          <p:cNvSpPr/>
          <p:nvPr/>
        </p:nvSpPr>
        <p:spPr>
          <a:xfrm>
            <a:off x="792720" y="2006640"/>
            <a:ext cx="4584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PPLEMENTAL TABLE 1.  Cell cycle profiles of HeLa cells trea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HU, Gö6976 or O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"/>
          <p:cNvPicPr/>
          <p:nvPr/>
        </p:nvPicPr>
        <p:blipFill>
          <a:blip r:embed="rId1"/>
          <a:srcRect l="4840" t="16722" r="7251" b="16389"/>
          <a:stretch/>
        </p:blipFill>
        <p:spPr>
          <a:xfrm>
            <a:off x="2362320" y="1784520"/>
            <a:ext cx="1904760" cy="304560"/>
          </a:xfrm>
          <a:prstGeom prst="rect">
            <a:avLst/>
          </a:prstGeom>
          <a:ln w="0">
            <a:noFill/>
          </a:ln>
        </p:spPr>
      </p:pic>
      <p:grpSp>
        <p:nvGrpSpPr>
          <p:cNvPr id="47" name="Group 12"/>
          <p:cNvGrpSpPr/>
          <p:nvPr/>
        </p:nvGrpSpPr>
        <p:grpSpPr>
          <a:xfrm>
            <a:off x="2362320" y="1398600"/>
            <a:ext cx="1904760" cy="304920"/>
            <a:chOff x="2362320" y="1398600"/>
            <a:chExt cx="1904760" cy="304920"/>
          </a:xfrm>
        </p:grpSpPr>
        <p:pic>
          <p:nvPicPr>
            <p:cNvPr id="48" name="Picture 2" descr=""/>
            <p:cNvPicPr/>
            <p:nvPr/>
          </p:nvPicPr>
          <p:blipFill>
            <a:blip r:embed="rId2"/>
            <a:srcRect l="11732" t="40276" r="9637" b="10501"/>
            <a:stretch/>
          </p:blipFill>
          <p:spPr>
            <a:xfrm>
              <a:off x="2362320" y="1398600"/>
              <a:ext cx="190476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Rectangle 5"/>
            <p:cNvSpPr/>
            <p:nvPr/>
          </p:nvSpPr>
          <p:spPr>
            <a:xfrm>
              <a:off x="2362320" y="1398600"/>
              <a:ext cx="1904760" cy="3049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" name="Group 13"/>
          <p:cNvGrpSpPr/>
          <p:nvPr/>
        </p:nvGrpSpPr>
        <p:grpSpPr>
          <a:xfrm>
            <a:off x="2362320" y="1004760"/>
            <a:ext cx="1904760" cy="307800"/>
            <a:chOff x="2362320" y="1004760"/>
            <a:chExt cx="1904760" cy="307800"/>
          </a:xfrm>
        </p:grpSpPr>
        <p:pic>
          <p:nvPicPr>
            <p:cNvPr id="51" name="Picture 3" descr=""/>
            <p:cNvPicPr/>
            <p:nvPr/>
          </p:nvPicPr>
          <p:blipFill>
            <a:blip r:embed="rId3"/>
            <a:srcRect l="6859" t="13281" r="7365" b="33710"/>
            <a:stretch/>
          </p:blipFill>
          <p:spPr>
            <a:xfrm>
              <a:off x="2362320" y="1004760"/>
              <a:ext cx="190476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Rectangle 6"/>
            <p:cNvSpPr/>
            <p:nvPr/>
          </p:nvSpPr>
          <p:spPr>
            <a:xfrm>
              <a:off x="2362320" y="1008000"/>
              <a:ext cx="1904760" cy="3045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Rectangle 7"/>
          <p:cNvSpPr/>
          <p:nvPr/>
        </p:nvSpPr>
        <p:spPr>
          <a:xfrm>
            <a:off x="2362320" y="1784520"/>
            <a:ext cx="190476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9"/>
          <p:cNvSpPr/>
          <p:nvPr/>
        </p:nvSpPr>
        <p:spPr>
          <a:xfrm>
            <a:off x="1599480" y="1449360"/>
            <a:ext cx="788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pS317-Chk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10"/>
          <p:cNvSpPr/>
          <p:nvPr/>
        </p:nvSpPr>
        <p:spPr>
          <a:xfrm>
            <a:off x="1599480" y="1052640"/>
            <a:ext cx="788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pS345-Chk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11"/>
          <p:cNvSpPr/>
          <p:nvPr/>
        </p:nvSpPr>
        <p:spPr>
          <a:xfrm>
            <a:off x="1931400" y="1830240"/>
            <a:ext cx="448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Chk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14"/>
          <p:cNvSpPr/>
          <p:nvPr/>
        </p:nvSpPr>
        <p:spPr>
          <a:xfrm rot="16116000">
            <a:off x="2442600" y="763560"/>
            <a:ext cx="358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HU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1052280" y="793800"/>
            <a:ext cx="123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Concentration (</a:t>
            </a:r>
            <a:r>
              <a:rPr b="1" lang="en-US" sz="9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M) 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16"/>
          <p:cNvSpPr/>
          <p:nvPr/>
        </p:nvSpPr>
        <p:spPr>
          <a:xfrm>
            <a:off x="2771640" y="804960"/>
            <a:ext cx="1130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0.03  0.3   1    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18"/>
          <p:cNvSpPr/>
          <p:nvPr/>
        </p:nvSpPr>
        <p:spPr>
          <a:xfrm>
            <a:off x="2962800" y="573120"/>
            <a:ext cx="545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Gö6976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19"/>
          <p:cNvSpPr/>
          <p:nvPr/>
        </p:nvSpPr>
        <p:spPr>
          <a:xfrm rot="16033800">
            <a:off x="2530080" y="687240"/>
            <a:ext cx="511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DMSO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20"/>
          <p:cNvSpPr/>
          <p:nvPr/>
        </p:nvSpPr>
        <p:spPr>
          <a:xfrm rot="16123200">
            <a:off x="2202480" y="676440"/>
            <a:ext cx="52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Contro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AutoShape 26"/>
          <p:cNvSpPr/>
          <p:nvPr/>
        </p:nvSpPr>
        <p:spPr>
          <a:xfrm rot="5400000">
            <a:off x="3184920" y="514800"/>
            <a:ext cx="88920" cy="598680"/>
          </a:xfrm>
          <a:custGeom>
            <a:avLst/>
            <a:gdLst>
              <a:gd name="textAreaLeft" fmla="*/ 25920 w 88920"/>
              <a:gd name="textAreaRight" fmla="*/ 89280 w 88920"/>
              <a:gd name="textAreaTop" fmla="*/ 24840 h 598680"/>
              <a:gd name="textAreaBottom" fmla="*/ 573840 h 598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27"/>
          <p:cNvSpPr/>
          <p:nvPr/>
        </p:nvSpPr>
        <p:spPr>
          <a:xfrm>
            <a:off x="3454560" y="808200"/>
            <a:ext cx="1130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0.05  0.5   1    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28"/>
          <p:cNvSpPr/>
          <p:nvPr/>
        </p:nvSpPr>
        <p:spPr>
          <a:xfrm>
            <a:off x="3740040" y="576360"/>
            <a:ext cx="358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OA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AutoShape 30"/>
          <p:cNvSpPr/>
          <p:nvPr/>
        </p:nvSpPr>
        <p:spPr>
          <a:xfrm rot="5400000">
            <a:off x="3868200" y="518040"/>
            <a:ext cx="88560" cy="598320"/>
          </a:xfrm>
          <a:custGeom>
            <a:avLst/>
            <a:gdLst>
              <a:gd name="textAreaLeft" fmla="*/ 25920 w 88560"/>
              <a:gd name="textAreaRight" fmla="*/ 88920 w 88560"/>
              <a:gd name="textAreaTop" fmla="*/ 24840 h 598320"/>
              <a:gd name="textAreaBottom" fmla="*/ 573480 h 598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58"/>
          <p:cNvSpPr/>
          <p:nvPr/>
        </p:nvSpPr>
        <p:spPr>
          <a:xfrm>
            <a:off x="2286000" y="2133720"/>
            <a:ext cx="3200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1     2    3    4    5     6    7    8    9  10  1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61"/>
          <p:cNvSpPr/>
          <p:nvPr/>
        </p:nvSpPr>
        <p:spPr>
          <a:xfrm>
            <a:off x="-228600" y="5334120"/>
            <a:ext cx="68580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Figure S1. Dose dependent inhibition of Chk1 dephosphorylation by Gö6976 and OA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A) HeLa cells were untreated (lane 1) or were incubated with 20 mM HU for 2 h to generate phosphorylated Chk1 (lanes 2-11).  The culture media was removed and cells were incubated in complete media containing DMSO (lane 3) or the indicated concentrations of either Gö6976 (lanes 3-7) or OA (lanes 8-11). Chk1 phosphorylation was monitored 1 hour after HU removal by Western blotting. (B) HeLa cells were treated as described in panel A except that the concentration of Gö6976 and OA were held constant and the time of incubation was varied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63"/>
          <p:cNvSpPr/>
          <p:nvPr/>
        </p:nvSpPr>
        <p:spPr>
          <a:xfrm>
            <a:off x="525600" y="15228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cture 81" descr=""/>
          <p:cNvPicPr/>
          <p:nvPr/>
        </p:nvPicPr>
        <p:blipFill>
          <a:blip r:embed="rId4"/>
          <a:srcRect l="3551" t="28476" r="4577" b="24109"/>
          <a:stretch/>
        </p:blipFill>
        <p:spPr>
          <a:xfrm>
            <a:off x="1778040" y="4111560"/>
            <a:ext cx="3124080" cy="3812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82" descr=""/>
          <p:cNvPicPr/>
          <p:nvPr/>
        </p:nvPicPr>
        <p:blipFill>
          <a:blip r:embed="rId5"/>
          <a:srcRect l="2334" t="11239" r="1943" b="32567"/>
          <a:stretch/>
        </p:blipFill>
        <p:spPr>
          <a:xfrm>
            <a:off x="1778040" y="3648240"/>
            <a:ext cx="3124080" cy="38088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83"/>
          <p:cNvSpPr/>
          <p:nvPr/>
        </p:nvSpPr>
        <p:spPr>
          <a:xfrm>
            <a:off x="1778040" y="3648240"/>
            <a:ext cx="312408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84"/>
          <p:cNvSpPr/>
          <p:nvPr/>
        </p:nvSpPr>
        <p:spPr>
          <a:xfrm>
            <a:off x="907560" y="3763800"/>
            <a:ext cx="788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pS345-Chk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85"/>
          <p:cNvSpPr/>
          <p:nvPr/>
        </p:nvSpPr>
        <p:spPr>
          <a:xfrm>
            <a:off x="1245600" y="4181400"/>
            <a:ext cx="448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Chk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Rectangle 86"/>
          <p:cNvSpPr/>
          <p:nvPr/>
        </p:nvSpPr>
        <p:spPr>
          <a:xfrm>
            <a:off x="1778040" y="4113360"/>
            <a:ext cx="312408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87"/>
          <p:cNvSpPr/>
          <p:nvPr/>
        </p:nvSpPr>
        <p:spPr>
          <a:xfrm rot="16116000">
            <a:off x="1922040" y="3380760"/>
            <a:ext cx="358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HU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88"/>
          <p:cNvSpPr/>
          <p:nvPr/>
        </p:nvSpPr>
        <p:spPr>
          <a:xfrm rot="16123200">
            <a:off x="1678680" y="3297600"/>
            <a:ext cx="52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Contro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89"/>
          <p:cNvSpPr/>
          <p:nvPr/>
        </p:nvSpPr>
        <p:spPr>
          <a:xfrm>
            <a:off x="903600" y="3417840"/>
            <a:ext cx="796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Time (min) 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90"/>
          <p:cNvSpPr/>
          <p:nvPr/>
        </p:nvSpPr>
        <p:spPr>
          <a:xfrm>
            <a:off x="2082960" y="3429000"/>
            <a:ext cx="1130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15  30   45    60   9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91"/>
          <p:cNvSpPr/>
          <p:nvPr/>
        </p:nvSpPr>
        <p:spPr>
          <a:xfrm>
            <a:off x="2414520" y="3197160"/>
            <a:ext cx="511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DMSO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AutoShape 92"/>
          <p:cNvSpPr/>
          <p:nvPr/>
        </p:nvSpPr>
        <p:spPr>
          <a:xfrm rot="5400000">
            <a:off x="2606760" y="3029040"/>
            <a:ext cx="101520" cy="831600"/>
          </a:xfrm>
          <a:custGeom>
            <a:avLst/>
            <a:gdLst>
              <a:gd name="textAreaLeft" fmla="*/ 29880 w 101520"/>
              <a:gd name="textAreaRight" fmla="*/ 101880 w 101520"/>
              <a:gd name="textAreaTop" fmla="*/ 34560 h 831600"/>
              <a:gd name="textAreaBottom" fmla="*/ 797040 h 83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93"/>
          <p:cNvSpPr/>
          <p:nvPr/>
        </p:nvSpPr>
        <p:spPr>
          <a:xfrm>
            <a:off x="2971800" y="3429000"/>
            <a:ext cx="1130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15  30   45    60   9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94"/>
          <p:cNvSpPr/>
          <p:nvPr/>
        </p:nvSpPr>
        <p:spPr>
          <a:xfrm>
            <a:off x="3134880" y="3193920"/>
            <a:ext cx="906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Gö6976 (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en-US" sz="9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M)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AutoShape 95"/>
          <p:cNvSpPr/>
          <p:nvPr/>
        </p:nvSpPr>
        <p:spPr>
          <a:xfrm rot="5400000">
            <a:off x="3495240" y="3028680"/>
            <a:ext cx="101520" cy="831960"/>
          </a:xfrm>
          <a:custGeom>
            <a:avLst/>
            <a:gdLst>
              <a:gd name="textAreaLeft" fmla="*/ 29880 w 101520"/>
              <a:gd name="textAreaRight" fmla="*/ 101880 w 101520"/>
              <a:gd name="textAreaTop" fmla="*/ 34560 h 831960"/>
              <a:gd name="textAreaBottom" fmla="*/ 797400 h 831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96"/>
          <p:cNvSpPr/>
          <p:nvPr/>
        </p:nvSpPr>
        <p:spPr>
          <a:xfrm>
            <a:off x="3848040" y="3422520"/>
            <a:ext cx="1130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15  30   45    60   9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97"/>
          <p:cNvSpPr/>
          <p:nvPr/>
        </p:nvSpPr>
        <p:spPr>
          <a:xfrm>
            <a:off x="4108680" y="3187800"/>
            <a:ext cx="716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OA (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en-US" sz="9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M)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AutoShape 98"/>
          <p:cNvSpPr/>
          <p:nvPr/>
        </p:nvSpPr>
        <p:spPr>
          <a:xfrm rot="5400000">
            <a:off x="4371480" y="3022560"/>
            <a:ext cx="101880" cy="831960"/>
          </a:xfrm>
          <a:custGeom>
            <a:avLst/>
            <a:gdLst>
              <a:gd name="textAreaLeft" fmla="*/ 29880 w 101880"/>
              <a:gd name="textAreaRight" fmla="*/ 102240 w 101880"/>
              <a:gd name="textAreaTop" fmla="*/ 34560 h 831960"/>
              <a:gd name="textAreaBottom" fmla="*/ 797400 h 831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99"/>
          <p:cNvSpPr/>
          <p:nvPr/>
        </p:nvSpPr>
        <p:spPr>
          <a:xfrm>
            <a:off x="1778040" y="4498920"/>
            <a:ext cx="3200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1     2    3    4    5     6    7    8    9   10 11   12  13  14  15  16   17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100"/>
          <p:cNvSpPr/>
          <p:nvPr/>
        </p:nvSpPr>
        <p:spPr>
          <a:xfrm>
            <a:off x="268560" y="289872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102"/>
          <p:cNvSpPr/>
          <p:nvPr/>
        </p:nvSpPr>
        <p:spPr>
          <a:xfrm>
            <a:off x="5181480" y="60480"/>
            <a:ext cx="1600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FIG. S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ung-Pineda et 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5T15:36:34Z</dcterms:created>
  <dc:creator>HPW</dc:creator>
  <dc:description/>
  <dc:language>en-US</dc:language>
  <cp:lastModifiedBy>Potts, Nathaniel</cp:lastModifiedBy>
  <cp:lastPrinted>2006-06-20T18:40:00Z</cp:lastPrinted>
  <dcterms:modified xsi:type="dcterms:W3CDTF">2014-07-30T01:44:32Z</dcterms:modified>
  <cp:revision>29</cp:revision>
  <dc:subject/>
  <dc:title>PowerPoint Presentation</dc:title>
</cp:coreProperties>
</file>