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fferences in HCV VL results with a worldwide HCV performance panel of six HCV genotypes tested by three assay methods (•, small-volume RTx assay result − bDNA assay result; □, small-volume RTx assay result − CAM test result). The dotted line indicates the mean difference between small-volume RTx assay and bDNA assay results, and the dashed line indicates the mean difference between small-volume RTx assay and CAM test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8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fferences in HCV VL results with a worldwide HCV performance panel of six HCV genotypes tested by three assay methods (•, small-volume RTx assay result − bDNA assay result; □, small-volume RTx assay result − CAM test result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40" y="6659640"/>
            <a:ext cx="10044000" cy="90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095480" y="1079640"/>
            <a:ext cx="789444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0954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lligan E K et al. J. Clin. Microbiol. 2009;47:2635-26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14-03-13T21:57:03Z</dcterms:modified>
  <cp:revision>1</cp:revision>
  <dc:subject/>
  <dc:title>PowerPoint Presentation</dc:title>
</cp:coreProperties>
</file>