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Distribution of percent DNA sequence divergence in glr genes in pairs of H. pylori strains from a child and a parent. The numbers on top of each vertical bar indicate the number of strain pairs from family members that exhibited a particular level of diverg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8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8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istribution of percent DNA sequence divergence in glr genes in pairs of H. pylori strains from a child and a paren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240" y="6659640"/>
            <a:ext cx="10044000" cy="900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1703520" y="1079640"/>
            <a:ext cx="6678360" cy="53942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"/>
          <p:cNvSpPr/>
          <p:nvPr/>
        </p:nvSpPr>
        <p:spPr>
          <a:xfrm>
            <a:off x="1703520" y="6583320"/>
            <a:ext cx="43192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errera P M et al. J. Clin. Microbiol. 2008;46:3912-39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st</cp:lastModifiedBy>
  <dcterms:modified xsi:type="dcterms:W3CDTF">2014-03-15T01:34:35Z</dcterms:modified>
  <cp:revision>1</cp:revision>
  <dc:subject/>
  <dc:title>PowerPoint Presentation</dc:title>
</cp:coreProperties>
</file>