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CR and sequencing of pPmir and a subsequent BLAST search determined that the PCR fragment generated showed 100% homology with the KPC-2 gene sequence submitted to GenB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CR and sequencing of pPmir and a subsequent BLAST search determined that the PCR fragment generated showed 100% homology with the KPC-2 gene sequence submitted to GenBan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" y="6659640"/>
            <a:ext cx="100440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6280" y="1079640"/>
            <a:ext cx="445284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62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bbetts R et al. J. Clin. Microbiol. 2008;46:3080-3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