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ED1-577F-449B-A507-0B5668CC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337C-8BFB-48C2-8CE0-429D8D80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A00C-F3DC-4504-9A8E-4EB59E24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32A-5BCC-47A3-8C00-9285D6F3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FCA-FA60-4C8D-8000-2AC50CB5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DEF-670C-4FF1-BBE3-8C1C3534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41C-B2D2-4EBA-BD13-8F0EB7D2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383-A41D-4A9F-AB0B-61F4FCC7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939-00F2-4B0A-8E4C-13728D8E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300-B718-415F-B446-DD5AE310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3EB0-82C5-4E9E-8642-3301858E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57A-D02A-4890-92CB-00F56EA4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3765-40A3-47AB-8220-654A17BB885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figure3"/>
          <p:cNvPicPr/>
          <p:nvPr/>
        </p:nvPicPr>
        <p:blipFill>
          <a:blip r:embed="rId1"/>
          <a:stretch/>
        </p:blipFill>
        <p:spPr>
          <a:xfrm>
            <a:off x="1197000" y="395280"/>
            <a:ext cx="3844800" cy="37497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335880" y="8388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gure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figure7"/>
          <p:cNvPicPr/>
          <p:nvPr/>
        </p:nvPicPr>
        <p:blipFill>
          <a:blip r:embed="rId2"/>
          <a:stretch/>
        </p:blipFill>
        <p:spPr>
          <a:xfrm>
            <a:off x="1271520" y="4140360"/>
            <a:ext cx="4173480" cy="35287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3"/>
          <p:cNvSpPr/>
          <p:nvPr/>
        </p:nvSpPr>
        <p:spPr>
          <a:xfrm>
            <a:off x="243000" y="156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243000" y="559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6:23:33Z</dcterms:created>
  <dc:creator>IP</dc:creator>
  <dc:description/>
  <dc:language>en-US</dc:language>
  <cp:lastModifiedBy>Potts, Nathaniel</cp:lastModifiedBy>
  <dcterms:modified xsi:type="dcterms:W3CDTF">2014-05-14T02:46:03Z</dcterms:modified>
  <cp:revision>6</cp:revision>
  <dc:subject/>
  <dc:title>Diapositive 1</dc:title>
</cp:coreProperties>
</file>