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DF4-E69D-4B5F-A475-BD95C1F7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F52-F87E-40BC-9D4D-569C071C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EC1-AB50-4AE9-90B4-D1924508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A16-8447-4853-8322-FB927955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948-6869-4CF6-94D1-0A33A54F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F6C-20D0-4AF4-B7FD-B45C3051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1BB-93EB-4B29-8A4B-39DCC235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AC9-D728-4225-BBB5-FEB98656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EB3-D6A3-4F26-9F9F-8B46E0BF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30A-C5BE-421B-B4CA-0EB0343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B9D-9BCF-4AE1-AB44-D47AC45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068-A04D-4B9D-9FD1-8DF863AA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CAE7-CD33-4518-B0EC-1D69919C464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figure3"/>
          <p:cNvPicPr/>
          <p:nvPr/>
        </p:nvPicPr>
        <p:blipFill>
          <a:blip r:embed="rId1"/>
          <a:stretch/>
        </p:blipFill>
        <p:spPr>
          <a:xfrm>
            <a:off x="1197000" y="395280"/>
            <a:ext cx="3844800" cy="3749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335880" y="8388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figure7"/>
          <p:cNvPicPr/>
          <p:nvPr/>
        </p:nvPicPr>
        <p:blipFill>
          <a:blip r:embed="rId2"/>
          <a:stretch/>
        </p:blipFill>
        <p:spPr>
          <a:xfrm>
            <a:off x="1271520" y="4140360"/>
            <a:ext cx="4173480" cy="3528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3"/>
          <p:cNvSpPr/>
          <p:nvPr/>
        </p:nvSpPr>
        <p:spPr>
          <a:xfrm>
            <a:off x="243000" y="156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243000" y="559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23:33Z</dcterms:created>
  <dc:creator>IP</dc:creator>
  <dc:description/>
  <dc:language>en-US</dc:language>
  <cp:lastModifiedBy>Potts, Nathaniel</cp:lastModifiedBy>
  <dcterms:modified xsi:type="dcterms:W3CDTF">2014-05-14T02:46:03Z</dcterms:modified>
  <cp:revision>6</cp:revision>
  <dc:subject/>
  <dc:title>Diapositive 1</dc:title>
</cp:coreProperties>
</file>