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D38-1289-4448-AF58-45B7F9FA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14A-2DDD-4B96-8290-E05324F1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C7F-711B-4974-84B9-BEDFD7D3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E37-D301-4AEA-9F90-91DA9564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054-22E6-4EA4-B2C4-0B00DFC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E4E-95A4-4038-A6C8-B3A5488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773-59A8-40A2-A1E9-D77FC88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EA5-6AEF-4D00-949D-2D02730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3CD-FFD1-4B9D-97CF-AFB79379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2BA-4039-446D-A98E-77F2A32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B48-89A8-4C39-A888-BF1C090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392-ED5C-445D-9F71-398E8EC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C457-6656-49A4-B604-9AC5CB081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ip jpeg 2.jpeg"/>
          <p:cNvPicPr/>
          <p:nvPr/>
        </p:nvPicPr>
        <p:blipFill>
          <a:blip r:embed="rId1"/>
          <a:stretch/>
        </p:blipFill>
        <p:spPr>
          <a:xfrm>
            <a:off x="609480" y="1981080"/>
            <a:ext cx="5257800" cy="46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6200000">
            <a:off x="2808720" y="408240"/>
            <a:ext cx="652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3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3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3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7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7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7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b*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b*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b*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95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95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95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0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0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0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1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1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1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2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2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2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G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G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G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16040" y="1447920"/>
            <a:ext cx="57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similarity matrix on raw microarray 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-AGO co-IP samples after miRNA transfections (PmiT-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488920" y="3200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214960" y="2514600"/>
            <a:ext cx="652320" cy="33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3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3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3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7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7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7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b*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b*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b*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5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5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5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0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0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0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1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1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2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2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2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G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G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G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8"/>
          <p:cNvCxnSpPr/>
          <p:nvPr/>
        </p:nvCxnSpPr>
        <p:spPr>
          <a:xfrm flipH="1" flipV="1">
            <a:off x="5714640" y="3385800"/>
            <a:ext cx="381600" cy="21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47" name="TextBox 42"/>
          <p:cNvSpPr/>
          <p:nvPr/>
        </p:nvSpPr>
        <p:spPr>
          <a:xfrm>
            <a:off x="4582080" y="30492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Fig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53:38Z</dcterms:created>
  <dc:creator>Center on Aging</dc:creator>
  <dc:description/>
  <dc:language>en-US</dc:language>
  <cp:lastModifiedBy>Center on Aging</cp:lastModifiedBy>
  <dcterms:modified xsi:type="dcterms:W3CDTF">2011-05-24T12:02:05Z</dcterms:modified>
  <cp:revision>234</cp:revision>
  <dc:subject/>
  <dc:title>Slide 1</dc:title>
</cp:coreProperties>
</file>