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mparisons of small-volume RTx assay results to bDNA and TaqMan results for clinical serum and plasma specimens for quantification of HCV RNA. (A) Linear regression analysis of the small-volume RTx assay versus the bDNA assay for 273 specimens. (B) Bland-Altman plot of paired VL differences between the small-volume RTx assay and the bDNA assay. (C) Linear regression analysis of the small-volume RTx assay versus the TaqMan assay for 98 specimens. (D) Bland-Altman plot of paired VL differences between the small-volume RTx and TaqMan assay VLs. HCV genotypes in panels B and D are indicated by the following symbols: •, genotype 1; ▵, genotype 2; ○, genotype 3; ×, genotype 4; ▴, genotype 5; ▪, genotype 6; □, genotype unspec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arisons of small-volume RTx assay results to bDNA and TaqMan results for clinical serum and plasma specimens for quantification of HCV RNA. (A) Linear regression analysis of the small-volume RTx assay versus the bDNA assay for 273 specime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201680" y="1079640"/>
            <a:ext cx="768348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201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lligan E K et al. J. Clin. Microbiol. 2009;47:2635-26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4-03-13T21:57:28Z</dcterms:modified>
  <cp:revision>1</cp:revision>
  <dc:subject/>
  <dc:title>PowerPoint Presentation</dc:title>
</cp:coreProperties>
</file>