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B5B-CB05-4955-81BD-041E25A4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B00-34DF-41B4-B7E8-7B9768D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FB3-C9DE-4757-B503-4357D860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501-C3B6-4356-8884-52B940F8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39E-B1D8-483E-9EF6-A0D44D3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C4A-CFEC-4CD9-A891-DD6BFE59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B86-EF0D-4D22-8A53-573D45C3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208-FE24-445F-89EF-CD7ABF6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DBD-A1D0-402D-A048-70384711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B4F-1825-45B1-92AF-08B9CB4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05B-4013-41DE-8FA2-371220A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77E-22B4-48C8-84DE-9E623E5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9829-1E4A-4F00-B662-561E56EC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5881680"/>
            <a:ext cx="1068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413080"/>
            <a:ext cx="4649760" cy="31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413080"/>
            <a:ext cx="4649760" cy="3157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2413080"/>
            <a:ext cx="1800" cy="315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8080" y="55706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8080" y="5175360"/>
            <a:ext cx="25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8080" y="478152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8080" y="4386240"/>
            <a:ext cx="25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8080" y="3989520"/>
            <a:ext cx="252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8080" y="35956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8080" y="3200400"/>
            <a:ext cx="25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8080" y="280656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8080" y="241308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5570640"/>
            <a:ext cx="464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40328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6220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1932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7644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3536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9248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4960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0672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6564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2276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98168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33880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9592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05304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2560" y="5570640"/>
            <a:ext cx="357480" cy="14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940040" y="5546880"/>
            <a:ext cx="358560" cy="237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98600" y="5495760"/>
            <a:ext cx="357120" cy="511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55720" y="5366880"/>
            <a:ext cx="357480" cy="1285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13200" y="4443480"/>
            <a:ext cx="358560" cy="9237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371760" y="2590920"/>
            <a:ext cx="357120" cy="18525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28880" y="2590920"/>
            <a:ext cx="357480" cy="7477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86360" y="3338640"/>
            <a:ext cx="358560" cy="14065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44920" y="4745160"/>
            <a:ext cx="357120" cy="5601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2040" y="5305320"/>
            <a:ext cx="357480" cy="1652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59520" y="5470560"/>
            <a:ext cx="357120" cy="493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16640" y="5519880"/>
            <a:ext cx="358560" cy="2520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2560" y="5570640"/>
            <a:ext cx="357480" cy="1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40040" y="5544720"/>
            <a:ext cx="358560" cy="255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298600" y="5483160"/>
            <a:ext cx="357120" cy="619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55720" y="5319720"/>
            <a:ext cx="357480" cy="163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13200" y="4936680"/>
            <a:ext cx="358560" cy="3826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71760" y="3571920"/>
            <a:ext cx="357120" cy="13651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728880" y="3489120"/>
            <a:ext cx="357480" cy="82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3489480"/>
            <a:ext cx="358560" cy="809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4920" y="4299120"/>
            <a:ext cx="357120" cy="6807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2040" y="4979880"/>
            <a:ext cx="357480" cy="1159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9520" y="5095800"/>
            <a:ext cx="357120" cy="1713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16640" y="5267160"/>
            <a:ext cx="358560" cy="1177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2560" y="5570640"/>
            <a:ext cx="357480" cy="14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40040" y="5560560"/>
            <a:ext cx="358560" cy="97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98600" y="5557320"/>
            <a:ext cx="357120" cy="32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655720" y="5490720"/>
            <a:ext cx="357480" cy="666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13200" y="5202360"/>
            <a:ext cx="358560" cy="2887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71760" y="4670280"/>
            <a:ext cx="357120" cy="53208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28880" y="4168440"/>
            <a:ext cx="357480" cy="50148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086360" y="4049280"/>
            <a:ext cx="358560" cy="11916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44920" y="3935160"/>
            <a:ext cx="357120" cy="1141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2040" y="3935520"/>
            <a:ext cx="357480" cy="5904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9520" y="4525920"/>
            <a:ext cx="357120" cy="4939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16640" y="5019840"/>
            <a:ext cx="358560" cy="1746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74760" y="5519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7240" y="43354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7240" y="39416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7240" y="35481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7240" y="31510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1517040" y="56350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-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853640" y="5653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189520" y="567720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 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254448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-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290160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-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26052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61764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-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97476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-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33368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-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69080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-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04792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-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540504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5-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576216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-6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21960" y="5883120"/>
            <a:ext cx="21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69760" y="3922560"/>
            <a:ext cx="51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81120" y="2495520"/>
            <a:ext cx="177840" cy="14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6960" y="2454120"/>
            <a:ext cx="12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1120" y="2619360"/>
            <a:ext cx="177840" cy="1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7680" y="2577960"/>
            <a:ext cx="11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81120" y="2744640"/>
            <a:ext cx="177840" cy="18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6960" y="270180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446200"/>
            <a:ext cx="1144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98000" y="244476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,682; 34.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5320" y="2444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7040" y="244476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98000" y="256068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,457; 38.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5320" y="256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7040" y="256068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98000" y="268128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,597; 43.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5320" y="268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7040" y="268128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5881680"/>
            <a:ext cx="1068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413080"/>
            <a:ext cx="4649760" cy="31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413080"/>
            <a:ext cx="4649760" cy="3157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413080"/>
            <a:ext cx="1800" cy="315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8080" y="55706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8080" y="5175360"/>
            <a:ext cx="25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8080" y="478152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4386240"/>
            <a:ext cx="25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080" y="3989520"/>
            <a:ext cx="252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8080" y="35956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8080" y="3200400"/>
            <a:ext cx="25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8080" y="280656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8080" y="241308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5570640"/>
            <a:ext cx="464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0328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76220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1932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7644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3536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19248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4960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0672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6564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62276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98168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880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695920" y="55706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053040" y="55706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2560" y="5570640"/>
            <a:ext cx="357480" cy="14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40040" y="5546880"/>
            <a:ext cx="358560" cy="237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98600" y="5495760"/>
            <a:ext cx="357120" cy="511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655720" y="5366880"/>
            <a:ext cx="357480" cy="1285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13200" y="4443480"/>
            <a:ext cx="358560" cy="9237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371760" y="2590920"/>
            <a:ext cx="357120" cy="18525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28880" y="2590920"/>
            <a:ext cx="357480" cy="7477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3338640"/>
            <a:ext cx="358560" cy="14065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44920" y="4745160"/>
            <a:ext cx="357120" cy="56016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2040" y="5305320"/>
            <a:ext cx="357480" cy="1652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59520" y="5470560"/>
            <a:ext cx="357120" cy="4932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6640" y="5519880"/>
            <a:ext cx="358560" cy="2520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2560" y="5570640"/>
            <a:ext cx="357480" cy="1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40040" y="5544720"/>
            <a:ext cx="358560" cy="255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98600" y="5483160"/>
            <a:ext cx="357120" cy="619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55720" y="5319720"/>
            <a:ext cx="357480" cy="163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013200" y="4936680"/>
            <a:ext cx="358560" cy="3826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71760" y="3571920"/>
            <a:ext cx="357120" cy="13651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28880" y="3489120"/>
            <a:ext cx="357480" cy="82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86360" y="3489480"/>
            <a:ext cx="358560" cy="809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44920" y="4299120"/>
            <a:ext cx="357120" cy="6807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040" y="4979880"/>
            <a:ext cx="357480" cy="1159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59520" y="5095800"/>
            <a:ext cx="357120" cy="1713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16640" y="5267160"/>
            <a:ext cx="358560" cy="11772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2560" y="5570640"/>
            <a:ext cx="3574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40040" y="5560560"/>
            <a:ext cx="358560" cy="9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98600" y="5557320"/>
            <a:ext cx="3571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55720" y="5490720"/>
            <a:ext cx="357480" cy="666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13200" y="5202360"/>
            <a:ext cx="35856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71760" y="4670280"/>
            <a:ext cx="357120" cy="532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28880" y="4168440"/>
            <a:ext cx="357480" cy="5014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086360" y="4049280"/>
            <a:ext cx="358560" cy="1191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44920" y="3935160"/>
            <a:ext cx="357120" cy="1141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2040" y="3935520"/>
            <a:ext cx="357480" cy="5904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59520" y="4525920"/>
            <a:ext cx="357120" cy="493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16640" y="5019840"/>
            <a:ext cx="358560" cy="1746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4760" y="512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27240" y="4730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7240" y="2759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27240" y="2362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1517040" y="56350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-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853640" y="5653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189520" y="567720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 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54448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-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290160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-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326052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361764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-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97476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-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3368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-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469080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-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504792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-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40504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5-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5762160" y="5674680"/>
            <a:ext cx="22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-6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21960" y="5883120"/>
            <a:ext cx="21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869760" y="3922560"/>
            <a:ext cx="51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1120" y="2495520"/>
            <a:ext cx="177840" cy="14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6960" y="2454120"/>
            <a:ext cx="12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81120" y="2619360"/>
            <a:ext cx="177840" cy="14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7680" y="2577960"/>
            <a:ext cx="11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1120" y="2744640"/>
            <a:ext cx="17784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76960" y="270180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2446200"/>
            <a:ext cx="1144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98720" y="2444760"/>
            <a:ext cx="73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,682; 34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±6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98720" y="2560680"/>
            <a:ext cx="73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,457; 38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±8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98720" y="2681280"/>
            <a:ext cx="73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,597; 4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±8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21:26:45Z</dcterms:created>
  <dc:creator>Makedonka Dautova</dc:creator>
  <dc:description/>
  <dc:language>en-US</dc:language>
  <cp:lastModifiedBy>Makedonka Dautova</cp:lastModifiedBy>
  <dcterms:modified xsi:type="dcterms:W3CDTF">2006-03-23T04:41:55Z</dcterms:modified>
  <cp:revision>96</cp:revision>
  <dc:subject/>
  <dc:title>PowerPoint Presentation</dc:title>
</cp:coreProperties>
</file>