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26C-9EA9-431D-BC6A-120CB22A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4D3-8CCB-4028-A34E-A1E077F0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045-8407-4C5F-A980-145EB0A3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B66-DAAB-4F71-987B-27F3B654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8DA-46B0-44C9-B9E4-FF8E01D8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B62-C831-4E84-8F92-E4DDB9FA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655-CADD-4129-954F-AE9CA382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548-3DED-4DF0-895D-62F008C3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10E-B0C2-4542-AB5B-03A9898D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133-207B-44B6-A3AC-99E633FF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D5B-4E22-4F44-A5F1-AA5B1173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3B1-6094-4EC0-A5C2-9A497E24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11A6-12F4-46AD-914C-2848625F3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2211480"/>
          <a:ext cx="4952880" cy="4265640"/>
        </p:xfrm>
        <a:graphic>
          <a:graphicData uri="http://schemas.openxmlformats.org/drawingml/2006/table">
            <a:tbl>
              <a:tblPr/>
              <a:tblGrid>
                <a:gridCol w="719280"/>
                <a:gridCol w="2057400"/>
                <a:gridCol w="2176200"/>
              </a:tblGrid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fold decrease in lysate after miR-107 trans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fold increase in AGO-miRNP after miR-107 trans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F1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466605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L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88222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C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150508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F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46978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678046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PG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444723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617109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G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54674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B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984425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AA0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854030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8014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N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835038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SD17B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33074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CA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91777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CA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022094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HA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82010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R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597396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NB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33313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1H1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9875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F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878118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not enriched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Box 42"/>
          <p:cNvSpPr/>
          <p:nvPr/>
        </p:nvSpPr>
        <p:spPr>
          <a:xfrm>
            <a:off x="4575960" y="304920"/>
            <a:ext cx="20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lson, PT_Suppl_Tabl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05160" y="1676520"/>
            <a:ext cx="597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lemental Table 2.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20 mRNAs which were PmiT-Lys (mRNA knocked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ysates) although not enriched in anti-AGO co-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2"/>
          <p:cNvSpPr/>
          <p:nvPr/>
        </p:nvSpPr>
        <p:spPr>
          <a:xfrm>
            <a:off x="4575960" y="304920"/>
            <a:ext cx="20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lson, PT_Suppl_Tabl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45040" y="2590920"/>
            <a:ext cx="579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lemental Table 3.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age of seed-containing 5’UTR, CDS, and 3’U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s from top 100 PmiT-AGO and PmiT-Lys mRNAs for each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cted miRNAs, along with mean length of each (whether or not seed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3581280"/>
          <a:ext cx="6095880" cy="3006720"/>
        </p:xfrm>
        <a:graphic>
          <a:graphicData uri="http://schemas.openxmlformats.org/drawingml/2006/table">
            <a:tbl>
              <a:tblPr/>
              <a:tblGrid>
                <a:gridCol w="838080"/>
                <a:gridCol w="457200"/>
                <a:gridCol w="400320"/>
                <a:gridCol w="368280"/>
                <a:gridCol w="512640"/>
                <a:gridCol w="366840"/>
                <a:gridCol w="544320"/>
                <a:gridCol w="352440"/>
                <a:gridCol w="511200"/>
                <a:gridCol w="336600"/>
                <a:gridCol w="512640"/>
                <a:gridCol w="382680"/>
                <a:gridCol w="512640"/>
              </a:tblGrid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 of top-100 PmiT-AGO with seed sequences in 5’UTR, CDS, and 3’UT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 of top-100 PmiT-Lys with seed sequences in 5’UTR, CDS, and 3’UT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64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'UT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leng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leng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'UT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leng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'UT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leng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leng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'UT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leng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-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4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0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6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-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5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-107 MUT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8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6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5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-107 MUT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6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4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4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7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4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-1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3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3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5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4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-3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5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0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9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8:53:38Z</dcterms:created>
  <dc:creator>Center on Aging</dc:creator>
  <dc:description/>
  <dc:language>en-US</dc:language>
  <cp:lastModifiedBy>Center on Aging</cp:lastModifiedBy>
  <dcterms:modified xsi:type="dcterms:W3CDTF">2011-05-20T12:15:07Z</dcterms:modified>
  <cp:revision>234</cp:revision>
  <dc:subject/>
  <dc:title>Slide 1</dc:title>
</cp:coreProperties>
</file>