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36F-5DDC-46E8-ABA0-2F7EF5DE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B75-AEAF-4A7D-A190-0419CBB0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D2E-09E2-4E53-BDFB-72EBC047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14-4FC2-40C4-AFE3-6141996E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433-FCA6-46E0-AD16-ABF334FE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595-6940-41A0-ABDB-8125077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9DD-7FE4-4EB9-B4E4-339019D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5E1-0CFC-49B0-B54D-0A60291C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622-9FFF-4761-9D58-DBB092F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E38-2673-4570-966C-F245B2E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ED7-48EC-4269-9F24-D39A465A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D19-37B1-4CAA-BB75-CAAB20B8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86D6-0427-4971-81C3-C424564C7A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1"/>
          <a:srcRect l="0" t="10624" r="1432" b="36667"/>
          <a:stretch/>
        </p:blipFill>
        <p:spPr>
          <a:xfrm>
            <a:off x="1028880" y="692280"/>
            <a:ext cx="4806720" cy="1606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99120" y="68436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 : 968475..10101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48440" y="228924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950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656600" y="2268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358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77320" y="2268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3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424400" y="2454120"/>
            <a:ext cx="24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rcRect l="0" t="7502" r="1302" b="40314"/>
          <a:stretch/>
        </p:blipFill>
        <p:spPr>
          <a:xfrm>
            <a:off x="1112760" y="3219480"/>
            <a:ext cx="4813200" cy="159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525040" y="321480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2 : 831923..895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42080" y="479124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8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429200" y="4797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40160" y="48038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79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372640" y="477828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38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102200" y="493092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very poorly transcribed in all conditions tested.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3"/>
          <a:srcRect l="0" t="7294" r="1267" b="37290"/>
          <a:stretch/>
        </p:blipFill>
        <p:spPr>
          <a:xfrm>
            <a:off x="1133640" y="5718240"/>
            <a:ext cx="4814640" cy="1689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0"/>
          <p:cNvSpPr/>
          <p:nvPr/>
        </p:nvSpPr>
        <p:spPr>
          <a:xfrm>
            <a:off x="2684160" y="574848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3 : 1368078..14114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924480" y="73566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2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654560" y="73566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9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88480" y="73627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8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4"/>
          <p:cNvGrpSpPr/>
          <p:nvPr/>
        </p:nvGrpSpPr>
        <p:grpSpPr>
          <a:xfrm>
            <a:off x="870120" y="8104320"/>
            <a:ext cx="1091160" cy="480960"/>
            <a:chOff x="870120" y="8104320"/>
            <a:chExt cx="1091160" cy="480960"/>
          </a:xfrm>
        </p:grpSpPr>
        <p:sp>
          <p:nvSpPr>
            <p:cNvPr id="60" name="AutoShape 25"/>
            <p:cNvSpPr/>
            <p:nvPr/>
          </p:nvSpPr>
          <p:spPr>
            <a:xfrm>
              <a:off x="870120" y="814068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6"/>
            <p:cNvSpPr/>
            <p:nvPr/>
          </p:nvSpPr>
          <p:spPr>
            <a:xfrm>
              <a:off x="870120" y="837576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7"/>
            <p:cNvSpPr/>
            <p:nvPr/>
          </p:nvSpPr>
          <p:spPr>
            <a:xfrm>
              <a:off x="1217160" y="810432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1218240" y="83390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29"/>
          <p:cNvSpPr/>
          <p:nvPr/>
        </p:nvSpPr>
        <p:spPr>
          <a:xfrm>
            <a:off x="196200" y="17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5720" y="22892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3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927360" y="21384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8840" y="214488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12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rcRect l="0" t="7346" r="1270" b="39067"/>
          <a:stretch/>
        </p:blipFill>
        <p:spPr>
          <a:xfrm>
            <a:off x="1076400" y="2976480"/>
            <a:ext cx="4814640" cy="1633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2673000" y="297828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5: 1555039..15810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016280" y="45482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9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032560" y="45543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44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243760" y="45464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09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516840" y="482760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CNAG_07447 is poorly expressed in all tested condi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nd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790920" y="5506920"/>
            <a:ext cx="5448600" cy="2474280"/>
            <a:chOff x="790920" y="5506920"/>
            <a:chExt cx="5448600" cy="2474280"/>
          </a:xfrm>
        </p:grpSpPr>
        <p:grpSp>
          <p:nvGrpSpPr>
            <p:cNvPr id="75" name="Group 19"/>
            <p:cNvGrpSpPr/>
            <p:nvPr/>
          </p:nvGrpSpPr>
          <p:grpSpPr>
            <a:xfrm>
              <a:off x="790920" y="5506920"/>
              <a:ext cx="5448600" cy="2120760"/>
              <a:chOff x="790920" y="5506920"/>
              <a:chExt cx="5448600" cy="2120760"/>
            </a:xfrm>
          </p:grpSpPr>
          <p:pic>
            <p:nvPicPr>
              <p:cNvPr id="76" name="Picture 20" descr=""/>
              <p:cNvPicPr/>
              <p:nvPr/>
            </p:nvPicPr>
            <p:blipFill>
              <a:blip r:embed="rId2"/>
              <a:srcRect l="0" t="7185" r="1172" b="32708"/>
              <a:stretch/>
            </p:blipFill>
            <p:spPr>
              <a:xfrm>
                <a:off x="1209600" y="5524560"/>
                <a:ext cx="4819680" cy="18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 Box 21"/>
              <p:cNvSpPr/>
              <p:nvPr/>
            </p:nvSpPr>
            <p:spPr>
              <a:xfrm>
                <a:off x="790920" y="7304040"/>
                <a:ext cx="81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5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22"/>
              <p:cNvSpPr/>
              <p:nvPr/>
            </p:nvSpPr>
            <p:spPr>
              <a:xfrm>
                <a:off x="1057680" y="7412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7643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3"/>
              <p:cNvSpPr/>
              <p:nvPr/>
            </p:nvSpPr>
            <p:spPr>
              <a:xfrm>
                <a:off x="1724400" y="7412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53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4"/>
              <p:cNvSpPr/>
              <p:nvPr/>
            </p:nvSpPr>
            <p:spPr>
              <a:xfrm>
                <a:off x="1845000" y="7304040"/>
                <a:ext cx="8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7644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25"/>
              <p:cNvSpPr/>
              <p:nvPr/>
            </p:nvSpPr>
            <p:spPr>
              <a:xfrm>
                <a:off x="5426280" y="7335720"/>
                <a:ext cx="81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Arial"/>
                  </a:rPr>
                  <a:t>CNAG_0224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26"/>
              <p:cNvSpPr/>
              <p:nvPr/>
            </p:nvSpPr>
            <p:spPr>
              <a:xfrm>
                <a:off x="2908800" y="5506920"/>
                <a:ext cx="173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hr6: 777396..82275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7"/>
            <p:cNvSpPr/>
            <p:nvPr/>
          </p:nvSpPr>
          <p:spPr>
            <a:xfrm>
              <a:off x="1962000" y="7643880"/>
              <a:ext cx="406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7643, 02253 and 07747 are very poorly transcribed in all conditions tested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Share no homology with any prot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8"/>
          <p:cNvGrpSpPr/>
          <p:nvPr/>
        </p:nvGrpSpPr>
        <p:grpSpPr>
          <a:xfrm>
            <a:off x="812880" y="8437680"/>
            <a:ext cx="1091160" cy="480960"/>
            <a:chOff x="812880" y="8437680"/>
            <a:chExt cx="1091160" cy="480960"/>
          </a:xfrm>
        </p:grpSpPr>
        <p:sp>
          <p:nvSpPr>
            <p:cNvPr id="85" name="AutoShape 29"/>
            <p:cNvSpPr/>
            <p:nvPr/>
          </p:nvSpPr>
          <p:spPr>
            <a:xfrm>
              <a:off x="812880" y="847404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0"/>
            <p:cNvSpPr/>
            <p:nvPr/>
          </p:nvSpPr>
          <p:spPr>
            <a:xfrm>
              <a:off x="812880" y="870912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1159920" y="843768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1161000" y="867240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31" descr=""/>
          <p:cNvPicPr/>
          <p:nvPr/>
        </p:nvPicPr>
        <p:blipFill>
          <a:blip r:embed="rId3"/>
          <a:srcRect l="0" t="7917" r="1042" b="38963"/>
          <a:stretch/>
        </p:blipFill>
        <p:spPr>
          <a:xfrm>
            <a:off x="1098720" y="571680"/>
            <a:ext cx="4825800" cy="161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3"/>
          <p:cNvSpPr/>
          <p:nvPr/>
        </p:nvSpPr>
        <p:spPr>
          <a:xfrm>
            <a:off x="5105880" y="225576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7819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5556600" y="21351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52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424400" y="2441520"/>
            <a:ext cx="24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share sequence similarities with transposa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709000" y="3985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4: 706259..7544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0"/>
          <p:cNvGrpSpPr/>
          <p:nvPr/>
        </p:nvGrpSpPr>
        <p:grpSpPr>
          <a:xfrm>
            <a:off x="792720" y="838080"/>
            <a:ext cx="5941800" cy="2248920"/>
            <a:chOff x="792720" y="838080"/>
            <a:chExt cx="5941800" cy="2248920"/>
          </a:xfrm>
        </p:grpSpPr>
        <p:pic>
          <p:nvPicPr>
            <p:cNvPr id="95" name="Picture 12" descr=""/>
            <p:cNvPicPr/>
            <p:nvPr/>
          </p:nvPicPr>
          <p:blipFill>
            <a:blip r:embed="rId1"/>
            <a:srcRect l="0" t="6878" r="0" b="38750"/>
            <a:stretch/>
          </p:blipFill>
          <p:spPr>
            <a:xfrm>
              <a:off x="1052640" y="852480"/>
              <a:ext cx="48765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3"/>
            <p:cNvSpPr/>
            <p:nvPr/>
          </p:nvSpPr>
          <p:spPr>
            <a:xfrm>
              <a:off x="792720" y="250812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669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618520" y="24861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67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4913640" y="248616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670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3650400" y="2749680"/>
              <a:ext cx="308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5670 is very poorly transcribed in all conditions tes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Low similarities with transpos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2812320" y="838080"/>
              <a:ext cx="17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7: 523624..5731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59280" y="3557520"/>
            <a:ext cx="6297120" cy="2382120"/>
            <a:chOff x="359280" y="3557520"/>
            <a:chExt cx="6297120" cy="2382120"/>
          </a:xfrm>
        </p:grpSpPr>
        <p:pic>
          <p:nvPicPr>
            <p:cNvPr id="102" name="Picture 22" descr=""/>
            <p:cNvPicPr/>
            <p:nvPr/>
          </p:nvPicPr>
          <p:blipFill>
            <a:blip r:embed="rId2"/>
            <a:srcRect l="0" t="10312" r="0" b="34064"/>
            <a:stretch/>
          </p:blipFill>
          <p:spPr>
            <a:xfrm>
              <a:off x="990720" y="3600360"/>
              <a:ext cx="48765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23"/>
            <p:cNvSpPr/>
            <p:nvPr/>
          </p:nvSpPr>
          <p:spPr>
            <a:xfrm>
              <a:off x="359280" y="5284800"/>
              <a:ext cx="842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NAG_03251</a:t>
              </a: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4"/>
            <p:cNvSpPr/>
            <p:nvPr/>
          </p:nvSpPr>
          <p:spPr>
            <a:xfrm>
              <a:off x="1070280" y="529128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3252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5"/>
            <p:cNvSpPr/>
            <p:nvPr/>
          </p:nvSpPr>
          <p:spPr>
            <a:xfrm>
              <a:off x="5328000" y="528156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325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2702880" y="3557520"/>
              <a:ext cx="173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8: 449948..5076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7"/>
            <p:cNvSpPr/>
            <p:nvPr/>
          </p:nvSpPr>
          <p:spPr>
            <a:xfrm>
              <a:off x="3429000" y="5602320"/>
              <a:ext cx="32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 CNAG_03252 is very poorly expressed in all conditions tested. No homology with any known prote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816480" y="77040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4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232600" y="769140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77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3"/>
          <a:srcRect l="0" t="10624" r="0" b="41877"/>
          <a:stretch/>
        </p:blipFill>
        <p:spPr>
          <a:xfrm>
            <a:off x="1028880" y="6286680"/>
            <a:ext cx="4876560" cy="1447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1"/>
          <p:cNvSpPr/>
          <p:nvPr/>
        </p:nvSpPr>
        <p:spPr>
          <a:xfrm>
            <a:off x="2712600" y="6253200"/>
            <a:ext cx="16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9: 79939..845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98400" y="8342280"/>
            <a:ext cx="1091520" cy="481320"/>
            <a:chOff x="698400" y="8342280"/>
            <a:chExt cx="1091520" cy="481320"/>
          </a:xfrm>
        </p:grpSpPr>
        <p:sp>
          <p:nvSpPr>
            <p:cNvPr id="113" name="AutoShape 33"/>
            <p:cNvSpPr/>
            <p:nvPr/>
          </p:nvSpPr>
          <p:spPr>
            <a:xfrm>
              <a:off x="698400" y="837900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98400" y="861408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5"/>
            <p:cNvSpPr/>
            <p:nvPr/>
          </p:nvSpPr>
          <p:spPr>
            <a:xfrm>
              <a:off x="1046160" y="834228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6"/>
            <p:cNvSpPr/>
            <p:nvPr/>
          </p:nvSpPr>
          <p:spPr>
            <a:xfrm>
              <a:off x="1046880" y="857736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1" descr=""/>
          <p:cNvPicPr/>
          <p:nvPr/>
        </p:nvPicPr>
        <p:blipFill>
          <a:blip r:embed="rId1"/>
          <a:srcRect l="0" t="7294" r="1042" b="39586"/>
          <a:stretch/>
        </p:blipFill>
        <p:spPr>
          <a:xfrm>
            <a:off x="1130400" y="3244680"/>
            <a:ext cx="482580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rcRect l="0" t="7502" r="977" b="35004"/>
          <a:stretch/>
        </p:blipFill>
        <p:spPr>
          <a:xfrm>
            <a:off x="1162080" y="685800"/>
            <a:ext cx="482904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1"/>
          <p:cNvSpPr/>
          <p:nvPr/>
        </p:nvSpPr>
        <p:spPr>
          <a:xfrm>
            <a:off x="1070280" y="24145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8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28000" y="239220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48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749680" y="68112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0: 197074..2322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381680" y="484992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1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959720" y="4827600"/>
            <a:ext cx="8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7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677200" y="48308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2657880" y="329724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1: 866489..9346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"/>
          <p:cNvPicPr/>
          <p:nvPr/>
        </p:nvPicPr>
        <p:blipFill>
          <a:blip r:embed="rId3"/>
          <a:srcRect l="0" t="7185" r="1237" b="35628"/>
          <a:stretch/>
        </p:blipFill>
        <p:spPr>
          <a:xfrm>
            <a:off x="1219320" y="5800680"/>
            <a:ext cx="4816440" cy="1743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1"/>
          <p:cNvSpPr/>
          <p:nvPr/>
        </p:nvSpPr>
        <p:spPr>
          <a:xfrm>
            <a:off x="2676600" y="5802480"/>
            <a:ext cx="181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hr12: 136445..17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067400" y="75549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445720" y="7542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0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679320" y="7904160"/>
            <a:ext cx="1091520" cy="481320"/>
            <a:chOff x="679320" y="7904160"/>
            <a:chExt cx="1091520" cy="481320"/>
          </a:xfrm>
        </p:grpSpPr>
        <p:sp>
          <p:nvSpPr>
            <p:cNvPr id="131" name="AutoShape 25"/>
            <p:cNvSpPr/>
            <p:nvPr/>
          </p:nvSpPr>
          <p:spPr>
            <a:xfrm>
              <a:off x="679320" y="794088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6"/>
            <p:cNvSpPr/>
            <p:nvPr/>
          </p:nvSpPr>
          <p:spPr>
            <a:xfrm>
              <a:off x="679320" y="8175960"/>
              <a:ext cx="390600" cy="171360"/>
            </a:xfrm>
            <a:prstGeom prst="rightArrow">
              <a:avLst>
                <a:gd name="adj1" fmla="val 50000"/>
                <a:gd name="adj2" fmla="val 5698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1027080" y="79041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1027800" y="813924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6"/>
          <p:cNvSpPr/>
          <p:nvPr/>
        </p:nvSpPr>
        <p:spPr>
          <a:xfrm>
            <a:off x="657720" y="484344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17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3654360" y="5151600"/>
            <a:ext cx="28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CNAG_01781 and CNAG_01787 show some similarities with transposable elem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"/>
          <p:cNvPicPr/>
          <p:nvPr/>
        </p:nvPicPr>
        <p:blipFill>
          <a:blip r:embed="rId1"/>
          <a:srcRect l="0" t="10312" r="1172" b="31877"/>
          <a:stretch/>
        </p:blipFill>
        <p:spPr>
          <a:xfrm>
            <a:off x="1209600" y="1209600"/>
            <a:ext cx="4819680" cy="1762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2737080" y="13539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r13: 575725..6346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87840" y="297036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4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394600" y="2967120"/>
            <a:ext cx="81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0648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895320" y="6573960"/>
            <a:ext cx="1091160" cy="480960"/>
            <a:chOff x="895320" y="6573960"/>
            <a:chExt cx="1091160" cy="480960"/>
          </a:xfrm>
        </p:grpSpPr>
        <p:sp>
          <p:nvSpPr>
            <p:cNvPr id="142" name="AutoShape 13"/>
            <p:cNvSpPr/>
            <p:nvPr/>
          </p:nvSpPr>
          <p:spPr>
            <a:xfrm>
              <a:off x="895320" y="661032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4"/>
            <p:cNvSpPr/>
            <p:nvPr/>
          </p:nvSpPr>
          <p:spPr>
            <a:xfrm>
              <a:off x="895320" y="6845400"/>
              <a:ext cx="390240" cy="171000"/>
            </a:xfrm>
            <a:prstGeom prst="rightArrow">
              <a:avLst>
                <a:gd name="adj1" fmla="val 50000"/>
                <a:gd name="adj2" fmla="val 5705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1242360" y="6573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6"/>
            <p:cNvSpPr/>
            <p:nvPr/>
          </p:nvSpPr>
          <p:spPr>
            <a:xfrm>
              <a:off x="1243440" y="680868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misc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0"/>
          <p:cNvSpPr/>
          <p:nvPr/>
        </p:nvSpPr>
        <p:spPr>
          <a:xfrm>
            <a:off x="3429000" y="61009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Poorly expressed in all tested conditions</a:t>
            </a: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NAG_5487 and CNAG_8026 share low sequence similarities with transposases. CNAG_07882 share non homology with any known prote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60960" y="3919680"/>
            <a:ext cx="5318280" cy="2114280"/>
            <a:chOff x="660960" y="3919680"/>
            <a:chExt cx="5318280" cy="2114280"/>
          </a:xfrm>
        </p:grpSpPr>
        <p:sp>
          <p:nvSpPr>
            <p:cNvPr id="148" name="Text Box 19"/>
            <p:cNvSpPr/>
            <p:nvPr/>
          </p:nvSpPr>
          <p:spPr>
            <a:xfrm>
              <a:off x="3940560" y="577044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8026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5166000" y="578628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9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2026080" y="572292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87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2664000" y="3919680"/>
              <a:ext cx="181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hr14: 438184..4799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7" descr=""/>
            <p:cNvPicPr/>
            <p:nvPr/>
          </p:nvPicPr>
          <p:blipFill>
            <a:blip r:embed="rId2"/>
            <a:srcRect l="0" t="7502" r="0" b="39378"/>
            <a:stretch/>
          </p:blipFill>
          <p:spPr>
            <a:xfrm>
              <a:off x="990720" y="4152960"/>
              <a:ext cx="487656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2"/>
            <p:cNvSpPr/>
            <p:nvPr/>
          </p:nvSpPr>
          <p:spPr>
            <a:xfrm>
              <a:off x="1410120" y="581832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7882*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660960" y="5735520"/>
              <a:ext cx="81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CNAG_0548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 flipV="1">
              <a:off x="1009800" y="5670360"/>
              <a:ext cx="4787640" cy="6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1:29:01Z</dcterms:created>
  <dc:creator>IP</dc:creator>
  <dc:description/>
  <dc:language>en-US</dc:language>
  <cp:lastModifiedBy>Potts, Nathaniel</cp:lastModifiedBy>
  <dcterms:modified xsi:type="dcterms:W3CDTF">2014-05-14T02:47:34Z</dcterms:modified>
  <cp:revision>26</cp:revision>
  <dc:subject/>
  <dc:title>Diapositive 1</dc:title>
</cp:coreProperties>
</file>