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ABF1-E6DC-43A3-BA2E-B16126EAE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183F-BD7A-4D54-B5BF-EA4235C85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5A14-4013-4669-930A-015B4B7B8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620C-3CE9-4126-8348-92F97A30D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EA1C-0DB3-4043-A9B6-EFA633C5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9AFF-FD0D-42C4-8EB8-70C0EF085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F6CF-05CA-45D6-B68F-B78B3A66A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EC81-380A-4AE9-8D09-ACBAA540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E3E4-F8EB-4FFC-A3DA-49895F03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29A3-2DDB-4FC8-B989-85CCD8F7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7692-8162-44E1-9F02-0428574F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B2D3-CC41-476A-AF24-EEF7D77D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3920-A3DA-43FD-8FB0-5FDB843A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BF08-C932-409F-A77F-353D0DE3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5A7F-5907-495C-A176-3D079A5C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53E1-9A35-4D3E-ABDF-6438B30EA1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hart 4" descr=""/>
          <p:cNvPicPr/>
          <p:nvPr/>
        </p:nvPicPr>
        <p:blipFill>
          <a:blip r:embed="rId1"/>
          <a:stretch/>
        </p:blipFill>
        <p:spPr>
          <a:xfrm>
            <a:off x="1633680" y="530280"/>
            <a:ext cx="3554280" cy="4017960"/>
          </a:xfrm>
          <a:prstGeom prst="rect">
            <a:avLst/>
          </a:prstGeom>
          <a:ln w="0">
            <a:noFill/>
          </a:ln>
        </p:spPr>
      </p:pic>
      <p:pic>
        <p:nvPicPr>
          <p:cNvPr id="49" name="Chart 5" descr=""/>
          <p:cNvPicPr/>
          <p:nvPr/>
        </p:nvPicPr>
        <p:blipFill>
          <a:blip r:embed="rId2"/>
          <a:stretch/>
        </p:blipFill>
        <p:spPr>
          <a:xfrm>
            <a:off x="1670040" y="4535640"/>
            <a:ext cx="3554280" cy="40179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1447920" y="579600"/>
            <a:ext cx="411480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1447920" y="4618080"/>
            <a:ext cx="411480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1527120" y="68580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1527120" y="457200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2"/>
          <p:cNvSpPr/>
          <p:nvPr/>
        </p:nvSpPr>
        <p:spPr>
          <a:xfrm>
            <a:off x="4582080" y="30492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lson, PT_Suppl_Fig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2517840" y="527544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2212560" y="5504040"/>
            <a:ext cx="69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C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eft Brace 10"/>
          <p:cNvSpPr/>
          <p:nvPr/>
        </p:nvSpPr>
        <p:spPr>
          <a:xfrm flipH="1" rot="16200000">
            <a:off x="3128040" y="1442160"/>
            <a:ext cx="316080" cy="457200"/>
          </a:xfrm>
          <a:custGeom>
            <a:avLst/>
            <a:gdLst>
              <a:gd name="textAreaLeft" fmla="*/ 201960 w 316080"/>
              <a:gd name="textAreaRight" fmla="*/ 316440 w 316080"/>
              <a:gd name="textAreaTop" fmla="*/ 7920 h 457200"/>
              <a:gd name="textAreaBottom" fmla="*/ 44928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22"/>
                  <a:pt x="10800" y="1244"/>
                </a:cubicBezTo>
                <a:lnTo>
                  <a:pt x="10800" y="9556"/>
                </a:lnTo>
                <a:cubicBezTo>
                  <a:pt x="10800" y="10178"/>
                  <a:pt x="5400" y="10800"/>
                  <a:pt x="0" y="10800"/>
                </a:cubicBezTo>
                <a:cubicBezTo>
                  <a:pt x="5400" y="10800"/>
                  <a:pt x="10800" y="11422"/>
                  <a:pt x="10800" y="12044"/>
                </a:cubicBezTo>
                <a:lnTo>
                  <a:pt x="10800" y="20356"/>
                </a:lnTo>
                <a:cubicBezTo>
                  <a:pt x="10800" y="2097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eft Brace 11"/>
          <p:cNvSpPr/>
          <p:nvPr/>
        </p:nvSpPr>
        <p:spPr>
          <a:xfrm flipH="1" rot="16200000">
            <a:off x="2432880" y="1442160"/>
            <a:ext cx="316080" cy="457200"/>
          </a:xfrm>
          <a:custGeom>
            <a:avLst/>
            <a:gdLst>
              <a:gd name="textAreaLeft" fmla="*/ 201960 w 316080"/>
              <a:gd name="textAreaRight" fmla="*/ 316440 w 316080"/>
              <a:gd name="textAreaTop" fmla="*/ 7920 h 457200"/>
              <a:gd name="textAreaBottom" fmla="*/ 44928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22"/>
                  <a:pt x="10800" y="1244"/>
                </a:cubicBezTo>
                <a:lnTo>
                  <a:pt x="10800" y="9556"/>
                </a:lnTo>
                <a:cubicBezTo>
                  <a:pt x="10800" y="10178"/>
                  <a:pt x="5400" y="10800"/>
                  <a:pt x="0" y="10800"/>
                </a:cubicBezTo>
                <a:cubicBezTo>
                  <a:pt x="5400" y="10800"/>
                  <a:pt x="10800" y="11422"/>
                  <a:pt x="10800" y="12044"/>
                </a:cubicBezTo>
                <a:lnTo>
                  <a:pt x="10800" y="20356"/>
                </a:lnTo>
                <a:cubicBezTo>
                  <a:pt x="10800" y="2097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2237040" y="1143000"/>
            <a:ext cx="32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ysate  Co-IP after transf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2529720" y="190512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6"/>
          <p:cNvSpPr/>
          <p:nvPr/>
        </p:nvSpPr>
        <p:spPr>
          <a:xfrm>
            <a:off x="2280240" y="242712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7"/>
          <p:cNvSpPr/>
          <p:nvPr/>
        </p:nvSpPr>
        <p:spPr>
          <a:xfrm>
            <a:off x="3346920" y="213372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9"/>
          <p:cNvSpPr/>
          <p:nvPr/>
        </p:nvSpPr>
        <p:spPr>
          <a:xfrm>
            <a:off x="1828800" y="5788080"/>
            <a:ext cx="3352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=3 biological replicates 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R-107 v  NEG-CTRL *-p&lt;0.01; **-p&lt;0.0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Chart 21" descr=""/>
          <p:cNvPicPr/>
          <p:nvPr/>
        </p:nvPicPr>
        <p:blipFill>
          <a:blip r:embed="rId1"/>
          <a:stretch/>
        </p:blipFill>
        <p:spPr>
          <a:xfrm>
            <a:off x="1517760" y="1352520"/>
            <a:ext cx="3895560" cy="44989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0"/>
          <p:cNvSpPr/>
          <p:nvPr/>
        </p:nvSpPr>
        <p:spPr>
          <a:xfrm>
            <a:off x="3203640" y="527544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1"/>
          <p:cNvSpPr/>
          <p:nvPr/>
        </p:nvSpPr>
        <p:spPr>
          <a:xfrm>
            <a:off x="2898360" y="5504040"/>
            <a:ext cx="69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C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2"/>
          <p:cNvSpPr/>
          <p:nvPr/>
        </p:nvSpPr>
        <p:spPr>
          <a:xfrm>
            <a:off x="4582080" y="30492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lson, PT_Suppl_Fig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1219320" y="812160"/>
            <a:ext cx="49528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              </a:t>
            </a:r>
            <a:r>
              <a:rPr b="0" lang="en-US" sz="1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3     </a:t>
            </a:r>
            <a:r>
              <a:rPr b="1" lang="en-US" sz="1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miR-107*       </a:t>
            </a:r>
            <a:r>
              <a:rPr b="0" lang="en-US" sz="1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   c      --c    </a:t>
            </a:r>
            <a:r>
              <a:rPr b="0" lang="en-US" sz="1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u</a:t>
            </a:r>
            <a:r>
              <a:rPr b="0" lang="en-US" sz="1400" spc="-1" strike="noStrike">
                <a:solidFill>
                  <a:srgbClr val="ff66ff"/>
                </a:solidFill>
                <a:latin typeface="Courier New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u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u  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cu ugcuuu   </a:t>
            </a:r>
            <a:r>
              <a:rPr b="0" lang="en-US" sz="1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agcu</a:t>
            </a:r>
            <a:r>
              <a:rPr b="0" lang="en-US" sz="1400" spc="-1" strike="noStrike">
                <a:solidFill>
                  <a:srgbClr val="ff66ff"/>
                </a:solidFill>
                <a:latin typeface="Courier New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cu</a:t>
            </a:r>
            <a:r>
              <a:rPr b="0" lang="en-US" sz="1400" spc="-1" strike="noStrike">
                <a:solidFill>
                  <a:srgbClr val="ff66ff"/>
                </a:solidFill>
                <a:latin typeface="Courier New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uacaguguugc</a:t>
            </a:r>
            <a:r>
              <a:rPr b="0" lang="en-US" sz="1400" spc="-1" strike="noStrike">
                <a:solidFill>
                  <a:srgbClr val="ff66ff"/>
                </a:solidFill>
                <a:latin typeface="Courier New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uu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ggc 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|| ||||||   |||| || ||||||||||| ||| |||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ga acgaa</a:t>
            </a:r>
            <a:r>
              <a:rPr b="1" lang="en-US" sz="1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a   ucgg ga auguuacgacg 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 uug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      </a:t>
            </a:r>
            <a:r>
              <a:rPr b="1" lang="en-US" sz="1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cua    -  c           -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-  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72        </a:t>
            </a:r>
            <a:r>
              <a:rPr b="1" lang="en-US" sz="1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miR-107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      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838080" y="2362320"/>
            <a:ext cx="378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omo sapien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R-107 stem-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1600200" y="2760120"/>
            <a:ext cx="463068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d9d9d9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u  u           c</a:t>
            </a:r>
            <a:r>
              <a:rPr b="0" lang="en-US" sz="1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1400" spc="-1" strike="noStrike">
                <a:solidFill>
                  <a:srgbClr val="d9d9d9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agcu cu uacaguguugc uug</a:t>
            </a:r>
            <a:r>
              <a:rPr b="1" lang="en-US" sz="14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miR-107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||| || ||||||||||| |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ucgg ga auguuacgacg a     </a:t>
            </a:r>
            <a:r>
              <a:rPr b="1" lang="en-US" sz="16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miR-1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cua    -  c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-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838080" y="408132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R-107 duplex for transf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838080" y="68580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0"/>
          <p:cNvSpPr/>
          <p:nvPr/>
        </p:nvSpPr>
        <p:spPr>
          <a:xfrm>
            <a:off x="838080" y="269244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838080" y="762120"/>
            <a:ext cx="5181840" cy="1981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2"/>
          <p:cNvSpPr/>
          <p:nvPr/>
        </p:nvSpPr>
        <p:spPr>
          <a:xfrm>
            <a:off x="838080" y="2743200"/>
            <a:ext cx="5181840" cy="1676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3"/>
          <p:cNvSpPr/>
          <p:nvPr/>
        </p:nvSpPr>
        <p:spPr>
          <a:xfrm>
            <a:off x="1067760" y="1138320"/>
            <a:ext cx="29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4"/>
          <p:cNvSpPr/>
          <p:nvPr/>
        </p:nvSpPr>
        <p:spPr>
          <a:xfrm>
            <a:off x="1220400" y="18288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5"/>
          <p:cNvSpPr/>
          <p:nvPr/>
        </p:nvSpPr>
        <p:spPr>
          <a:xfrm>
            <a:off x="1909080" y="2967120"/>
            <a:ext cx="29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6"/>
          <p:cNvSpPr/>
          <p:nvPr/>
        </p:nvSpPr>
        <p:spPr>
          <a:xfrm>
            <a:off x="4268160" y="3576600"/>
            <a:ext cx="29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7"/>
          <p:cNvSpPr/>
          <p:nvPr/>
        </p:nvSpPr>
        <p:spPr>
          <a:xfrm>
            <a:off x="1449000" y="37623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8"/>
          <p:cNvSpPr/>
          <p:nvPr/>
        </p:nvSpPr>
        <p:spPr>
          <a:xfrm>
            <a:off x="4496760" y="29718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Chart 16" descr=""/>
          <p:cNvPicPr/>
          <p:nvPr/>
        </p:nvPicPr>
        <p:blipFill>
          <a:blip r:embed="rId1"/>
          <a:stretch/>
        </p:blipFill>
        <p:spPr>
          <a:xfrm>
            <a:off x="3529080" y="4492800"/>
            <a:ext cx="2421000" cy="3358800"/>
          </a:xfrm>
          <a:prstGeom prst="rect">
            <a:avLst/>
          </a:prstGeom>
          <a:ln w="0">
            <a:noFill/>
          </a:ln>
        </p:spPr>
      </p:pic>
      <p:pic>
        <p:nvPicPr>
          <p:cNvPr id="83" name="Chart 17" descr=""/>
          <p:cNvPicPr/>
          <p:nvPr/>
        </p:nvPicPr>
        <p:blipFill>
          <a:blip r:embed="rId2"/>
          <a:stretch/>
        </p:blipFill>
        <p:spPr>
          <a:xfrm>
            <a:off x="706320" y="4492800"/>
            <a:ext cx="3030480" cy="3358800"/>
          </a:xfrm>
          <a:prstGeom prst="rect">
            <a:avLst/>
          </a:prstGeom>
          <a:ln w="0">
            <a:noFill/>
          </a:ln>
        </p:spPr>
      </p:pic>
      <p:sp>
        <p:nvSpPr>
          <p:cNvPr id="84" name="TextBox 10"/>
          <p:cNvSpPr/>
          <p:nvPr/>
        </p:nvSpPr>
        <p:spPr>
          <a:xfrm>
            <a:off x="838080" y="436896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3457440" y="434340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Straight Arrow Connector 22"/>
          <p:cNvCxnSpPr/>
          <p:nvPr/>
        </p:nvCxnSpPr>
        <p:spPr>
          <a:xfrm>
            <a:off x="3732840" y="3733920"/>
            <a:ext cx="533880" cy="838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7" name="Left Bracket 21"/>
          <p:cNvSpPr/>
          <p:nvPr/>
        </p:nvSpPr>
        <p:spPr>
          <a:xfrm rot="16200000">
            <a:off x="3809880" y="5714280"/>
            <a:ext cx="152280" cy="3810240"/>
          </a:xfrm>
          <a:custGeom>
            <a:avLst/>
            <a:gdLst>
              <a:gd name="textAreaLeft" fmla="*/ 44640 w 152280"/>
              <a:gd name="textAreaRight" fmla="*/ 152640 w 152280"/>
              <a:gd name="textAreaTop" fmla="*/ 6120 h 3810240"/>
              <a:gd name="textAreaBottom" fmla="*/ 3804120 h 381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6"/>
                  <a:pt x="0" y="72"/>
                </a:cubicBezTo>
                <a:lnTo>
                  <a:pt x="0" y="21528"/>
                </a:lnTo>
                <a:cubicBezTo>
                  <a:pt x="0" y="2156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1795320" y="7707240"/>
            <a:ext cx="42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-AGO co-IP with downstream qP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2"/>
          <p:cNvSpPr/>
          <p:nvPr/>
        </p:nvSpPr>
        <p:spPr>
          <a:xfrm>
            <a:off x="4582080" y="30492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lson, PT_Suppl_Fig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6"/>
          <p:cNvSpPr/>
          <p:nvPr/>
        </p:nvSpPr>
        <p:spPr>
          <a:xfrm>
            <a:off x="1057680" y="2895480"/>
            <a:ext cx="1526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 ax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R-16 targ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rted 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rich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AGO co-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50 mRNAs/gr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990720" y="5410080"/>
            <a:ext cx="1760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 ax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R-16 targ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rted 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NA lys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nock-dow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50 mRNAs/gr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1992240" y="21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0"/>
          <p:cNvSpPr/>
          <p:nvPr/>
        </p:nvSpPr>
        <p:spPr>
          <a:xfrm>
            <a:off x="1990800" y="46116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2"/>
          <p:cNvSpPr/>
          <p:nvPr/>
        </p:nvSpPr>
        <p:spPr>
          <a:xfrm>
            <a:off x="4582080" y="30492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lson, PT_Suppl_Fig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1"/>
          <a:stretch/>
        </p:blipFill>
        <p:spPr>
          <a:xfrm>
            <a:off x="2525760" y="2133720"/>
            <a:ext cx="3558960" cy="2646360"/>
          </a:xfrm>
          <a:prstGeom prst="rect">
            <a:avLst/>
          </a:prstGeom>
          <a:ln w="0">
            <a:noFill/>
          </a:ln>
        </p:spPr>
      </p:pic>
      <p:sp>
        <p:nvSpPr>
          <p:cNvPr id="96" name="TextBox 11"/>
          <p:cNvSpPr/>
          <p:nvPr/>
        </p:nvSpPr>
        <p:spPr>
          <a:xfrm>
            <a:off x="1471680" y="1371600"/>
            <a:ext cx="45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Y ax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# miR-16 seed sequences/1000 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5’utr, CDS, and 3’U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1" descr=""/>
          <p:cNvPicPr/>
          <p:nvPr/>
        </p:nvPicPr>
        <p:blipFill>
          <a:blip r:embed="rId2"/>
          <a:stretch/>
        </p:blipFill>
        <p:spPr>
          <a:xfrm>
            <a:off x="2514600" y="4876920"/>
            <a:ext cx="3581280" cy="2611440"/>
          </a:xfrm>
          <a:prstGeom prst="rect">
            <a:avLst/>
          </a:prstGeom>
          <a:ln w="0">
            <a:noFill/>
          </a:ln>
        </p:spPr>
      </p:pic>
      <p:sp>
        <p:nvSpPr>
          <p:cNvPr id="98" name="Straight Connector 13"/>
          <p:cNvSpPr/>
          <p:nvPr/>
        </p:nvSpPr>
        <p:spPr>
          <a:xfrm>
            <a:off x="2784600" y="7311960"/>
            <a:ext cx="3171600" cy="3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4"/>
          <p:cNvSpPr/>
          <p:nvPr/>
        </p:nvSpPr>
        <p:spPr>
          <a:xfrm>
            <a:off x="2602440" y="7297560"/>
            <a:ext cx="344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                      1000                     2000                       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15"/>
          <p:cNvSpPr/>
          <p:nvPr/>
        </p:nvSpPr>
        <p:spPr>
          <a:xfrm>
            <a:off x="3540240" y="7238880"/>
            <a:ext cx="0" cy="3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17"/>
          <p:cNvSpPr/>
          <p:nvPr/>
        </p:nvSpPr>
        <p:spPr>
          <a:xfrm>
            <a:off x="2819520" y="4568760"/>
            <a:ext cx="3171600" cy="3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8"/>
          <p:cNvSpPr/>
          <p:nvPr/>
        </p:nvSpPr>
        <p:spPr>
          <a:xfrm>
            <a:off x="2643480" y="4554360"/>
            <a:ext cx="344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                      1000                     2000                       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19"/>
          <p:cNvSpPr/>
          <p:nvPr/>
        </p:nvSpPr>
        <p:spPr>
          <a:xfrm>
            <a:off x="3575160" y="4495680"/>
            <a:ext cx="0" cy="3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18:53:38Z</dcterms:created>
  <dc:creator>Center on Aging</dc:creator>
  <dc:description/>
  <dc:language>en-US</dc:language>
  <cp:lastModifiedBy>Center on Aging</cp:lastModifiedBy>
  <dcterms:modified xsi:type="dcterms:W3CDTF">2011-05-20T12:14:28Z</dcterms:modified>
  <cp:revision>234</cp:revision>
  <dc:subject/>
  <dc:title>Slide 1</dc:title>
</cp:coreProperties>
</file>