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C43-7146-4228-B26C-4AED3DD4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09A-44C7-47E2-963A-B23BD4F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201-B4E4-448E-8484-9096FE1B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5C8-1230-4099-9F2F-718F01C2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76C-D413-4F73-998E-98F883D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EC6-3523-45FC-AF08-730AEB8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CE2-E65E-45B5-A3DB-F6A7DE1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9DE-E5A4-443A-B136-1805DC8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0DA-FC77-4107-9611-B15E90B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14D-6BF4-4B56-9F2D-79F6DFE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522-E403-4640-B3A4-6A0AB68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B34-D8C6-4E13-8D2F-39E627E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9B9-5874-4626-95C7-986985F6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8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1244160" y="48276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0"/>
          <p:cNvSpPr/>
          <p:nvPr/>
        </p:nvSpPr>
        <p:spPr>
          <a:xfrm>
            <a:off x="2040480" y="4827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BOO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74760" y="65556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34800" y="8049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3640" y="97308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73040" y="157176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140976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76360" y="172260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68360" y="11095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63680" y="12542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2735280" y="708120"/>
            <a:ext cx="747720" cy="12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149480" y="708120"/>
            <a:ext cx="777600" cy="119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1952640" y="708120"/>
            <a:ext cx="752400" cy="1198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0"/>
          <p:cNvSpPr/>
          <p:nvPr/>
        </p:nvSpPr>
        <p:spPr>
          <a:xfrm>
            <a:off x="2677320" y="48276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nad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3517920" y="701640"/>
            <a:ext cx="749160" cy="1211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0"/>
          <p:cNvSpPr/>
          <p:nvPr/>
        </p:nvSpPr>
        <p:spPr>
          <a:xfrm>
            <a:off x="3545280" y="48276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iam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370040" y="21956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5262840" y="2206800"/>
            <a:ext cx="38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6004800" y="219564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9" descr=""/>
          <p:cNvPicPr/>
          <p:nvPr/>
        </p:nvPicPr>
        <p:blipFill>
          <a:blip r:embed="rId5"/>
          <a:stretch/>
        </p:blipFill>
        <p:spPr>
          <a:xfrm>
            <a:off x="4292640" y="2436840"/>
            <a:ext cx="765000" cy="120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"/>
          <p:cNvPicPr/>
          <p:nvPr/>
        </p:nvPicPr>
        <p:blipFill>
          <a:blip r:embed="rId6"/>
          <a:stretch/>
        </p:blipFill>
        <p:spPr>
          <a:xfrm>
            <a:off x="5875200" y="2432160"/>
            <a:ext cx="74304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"/>
          <p:cNvPicPr/>
          <p:nvPr/>
        </p:nvPicPr>
        <p:blipFill>
          <a:blip r:embed="rId7"/>
          <a:stretch/>
        </p:blipFill>
        <p:spPr>
          <a:xfrm>
            <a:off x="5087880" y="2436840"/>
            <a:ext cx="752400" cy="1209600"/>
          </a:xfrm>
          <a:prstGeom prst="rect">
            <a:avLst/>
          </a:prstGeom>
          <a:ln w="0">
            <a:noFill/>
          </a:ln>
        </p:spPr>
      </p:pic>
      <p:sp>
        <p:nvSpPr>
          <p:cNvPr id="63" name="Line 456"/>
          <p:cNvSpPr/>
          <p:nvPr/>
        </p:nvSpPr>
        <p:spPr>
          <a:xfrm>
            <a:off x="1949400" y="479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2568240" y="23328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xidative str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56"/>
          <p:cNvSpPr/>
          <p:nvPr/>
        </p:nvSpPr>
        <p:spPr>
          <a:xfrm>
            <a:off x="5118120" y="2198520"/>
            <a:ext cx="1461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0"/>
          <p:cNvSpPr/>
          <p:nvPr/>
        </p:nvSpPr>
        <p:spPr>
          <a:xfrm>
            <a:off x="5486400" y="1962000"/>
            <a:ext cx="6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R str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8"/>
          <a:stretch/>
        </p:blipFill>
        <p:spPr>
          <a:xfrm>
            <a:off x="1427040" y="5567400"/>
            <a:ext cx="766800" cy="1222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9"/>
          <a:stretch/>
        </p:blipFill>
        <p:spPr>
          <a:xfrm>
            <a:off x="2222640" y="5567400"/>
            <a:ext cx="766800" cy="12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10"/>
          <a:stretch/>
        </p:blipFill>
        <p:spPr>
          <a:xfrm>
            <a:off x="5018040" y="647640"/>
            <a:ext cx="777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11"/>
          <a:stretch/>
        </p:blipFill>
        <p:spPr>
          <a:xfrm>
            <a:off x="5826240" y="654120"/>
            <a:ext cx="777600" cy="1218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7"/>
          <p:cNvSpPr/>
          <p:nvPr/>
        </p:nvSpPr>
        <p:spPr>
          <a:xfrm>
            <a:off x="5123880" y="415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0"/>
          <p:cNvSpPr/>
          <p:nvPr/>
        </p:nvSpPr>
        <p:spPr>
          <a:xfrm>
            <a:off x="5767560" y="2174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Heavy m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5967000" y="419040"/>
            <a:ext cx="497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dSO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6"/>
          <p:cNvSpPr/>
          <p:nvPr/>
        </p:nvSpPr>
        <p:spPr>
          <a:xfrm>
            <a:off x="5818320" y="461880"/>
            <a:ext cx="774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1585440" y="53341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2218680" y="532296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ludioxoni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12"/>
          <a:srcRect l="39672" t="27843" r="40053" b="21859"/>
          <a:stretch/>
        </p:blipFill>
        <p:spPr>
          <a:xfrm>
            <a:off x="2179800" y="2470320"/>
            <a:ext cx="777600" cy="118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13"/>
          <a:srcRect l="40434" t="30520" r="40564" b="23561"/>
          <a:stretch/>
        </p:blipFill>
        <p:spPr>
          <a:xfrm>
            <a:off x="1374840" y="2470320"/>
            <a:ext cx="779400" cy="1187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1474200" y="223524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360160" y="22366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3"/>
          <p:cNvSpPr/>
          <p:nvPr/>
        </p:nvSpPr>
        <p:spPr>
          <a:xfrm>
            <a:off x="3426480" y="59641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-Ho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4"/>
          <p:cNvSpPr/>
          <p:nvPr/>
        </p:nvSpPr>
        <p:spPr>
          <a:xfrm>
            <a:off x="3526920" y="6246720"/>
            <a:ext cx="4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5"/>
          <p:cNvSpPr/>
          <p:nvPr/>
        </p:nvSpPr>
        <p:spPr>
          <a:xfrm rot="17898600">
            <a:off x="3910680" y="558540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6"/>
          <p:cNvSpPr/>
          <p:nvPr/>
        </p:nvSpPr>
        <p:spPr>
          <a:xfrm rot="17814000">
            <a:off x="4187880" y="5533920"/>
            <a:ext cx="6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 rot="17920800">
            <a:off x="4532040" y="5611680"/>
            <a:ext cx="44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8"/>
          <p:cNvSpPr/>
          <p:nvPr/>
        </p:nvSpPr>
        <p:spPr>
          <a:xfrm rot="17709600">
            <a:off x="4718880" y="5549040"/>
            <a:ext cx="65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1"/>
          <p:cNvSpPr/>
          <p:nvPr/>
        </p:nvSpPr>
        <p:spPr>
          <a:xfrm rot="17709600">
            <a:off x="5043600" y="559620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2"/>
          <p:cNvSpPr/>
          <p:nvPr/>
        </p:nvSpPr>
        <p:spPr>
          <a:xfrm rot="17709600">
            <a:off x="5278320" y="5532120"/>
            <a:ext cx="6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3"/>
          <p:cNvSpPr/>
          <p:nvPr/>
        </p:nvSpPr>
        <p:spPr>
          <a:xfrm rot="17709600">
            <a:off x="5546520" y="5541840"/>
            <a:ext cx="63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4"/>
          <p:cNvSpPr/>
          <p:nvPr/>
        </p:nvSpPr>
        <p:spPr>
          <a:xfrm rot="17709600">
            <a:off x="5850360" y="561816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4"/>
          <a:stretch/>
        </p:blipFill>
        <p:spPr>
          <a:xfrm>
            <a:off x="1442880" y="3997440"/>
            <a:ext cx="777960" cy="119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15"/>
          <a:stretch/>
        </p:blipFill>
        <p:spPr>
          <a:xfrm>
            <a:off x="2255760" y="3992400"/>
            <a:ext cx="776520" cy="119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16"/>
          <a:stretch/>
        </p:blipFill>
        <p:spPr>
          <a:xfrm>
            <a:off x="3062160" y="3994200"/>
            <a:ext cx="77652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7"/>
          <p:cNvSpPr/>
          <p:nvPr/>
        </p:nvSpPr>
        <p:spPr>
          <a:xfrm>
            <a:off x="1553760" y="37530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2466360" y="37479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268800" y="37497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7"/>
          <a:stretch/>
        </p:blipFill>
        <p:spPr>
          <a:xfrm>
            <a:off x="3871800" y="3989520"/>
            <a:ext cx="771480" cy="1195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7"/>
          <p:cNvSpPr/>
          <p:nvPr/>
        </p:nvSpPr>
        <p:spPr>
          <a:xfrm>
            <a:off x="4070520" y="37623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8"/>
          <a:stretch/>
        </p:blipFill>
        <p:spPr>
          <a:xfrm>
            <a:off x="4681440" y="3992400"/>
            <a:ext cx="773280" cy="11923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4860720" y="376380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9"/>
          <a:stretch/>
        </p:blipFill>
        <p:spPr>
          <a:xfrm>
            <a:off x="5492880" y="3986280"/>
            <a:ext cx="779400" cy="11923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7"/>
          <p:cNvSpPr/>
          <p:nvPr/>
        </p:nvSpPr>
        <p:spPr>
          <a:xfrm>
            <a:off x="5674320" y="3747960"/>
            <a:ext cx="4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-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331560" y="1224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0"/>
          <p:cNvSpPr/>
          <p:nvPr/>
        </p:nvSpPr>
        <p:spPr>
          <a:xfrm>
            <a:off x="4254840" y="12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0"/>
          <p:cNvSpPr/>
          <p:nvPr/>
        </p:nvSpPr>
        <p:spPr>
          <a:xfrm>
            <a:off x="314640" y="19209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3425760" y="1938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0"/>
          <p:cNvSpPr/>
          <p:nvPr/>
        </p:nvSpPr>
        <p:spPr>
          <a:xfrm>
            <a:off x="316800" y="3726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298440" y="52815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3234600" y="5238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248000" y="59040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08400" y="73980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467240" y="907920"/>
            <a:ext cx="60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346640" y="1506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341960" y="1344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449600" y="165744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341960" y="10447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336920" y="11890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01560" y="239868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1960" y="25480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820800" y="2716200"/>
            <a:ext cx="60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00200" y="331488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5160" y="3152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03160" y="34653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5160" y="28526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90480" y="2997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517920" y="237168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478320" y="2521080"/>
            <a:ext cx="87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736800" y="268920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616200" y="3287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611520" y="312588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19520" y="343836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611520" y="28256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606840" y="2970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65280" y="392256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25320" y="40719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884160" y="424008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63560" y="483876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58880" y="467676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66880" y="498960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758880" y="43768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54200" y="452124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49440" y="551340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09480" y="566244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68320" y="583092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747720" y="642924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43040" y="6267600"/>
            <a:ext cx="7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851040" y="6580080"/>
            <a:ext cx="6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743040" y="59673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38360" y="6111720"/>
            <a:ext cx="7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0"/>
          <a:stretch/>
        </p:blipFill>
        <p:spPr>
          <a:xfrm>
            <a:off x="3963960" y="5983200"/>
            <a:ext cx="2263680" cy="20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1" name="Picture 3" descr=""/>
          <p:cNvPicPr/>
          <p:nvPr/>
        </p:nvPicPr>
        <p:blipFill>
          <a:blip r:embed="rId21"/>
          <a:stretch/>
        </p:blipFill>
        <p:spPr>
          <a:xfrm>
            <a:off x="3965400" y="6281640"/>
            <a:ext cx="2262240" cy="20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TextBox 114"/>
          <p:cNvSpPr/>
          <p:nvPr/>
        </p:nvSpPr>
        <p:spPr>
          <a:xfrm>
            <a:off x="4014720" y="6499080"/>
            <a:ext cx="2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5"/>
          <p:cNvSpPr/>
          <p:nvPr/>
        </p:nvSpPr>
        <p:spPr>
          <a:xfrm>
            <a:off x="4230720" y="65055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.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6"/>
          <p:cNvSpPr/>
          <p:nvPr/>
        </p:nvSpPr>
        <p:spPr>
          <a:xfrm>
            <a:off x="4591080" y="6505560"/>
            <a:ext cx="2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7"/>
          <p:cNvSpPr/>
          <p:nvPr/>
        </p:nvSpPr>
        <p:spPr>
          <a:xfrm>
            <a:off x="4819680" y="650412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8"/>
          <p:cNvSpPr/>
          <p:nvPr/>
        </p:nvSpPr>
        <p:spPr>
          <a:xfrm>
            <a:off x="5072040" y="65088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9"/>
          <p:cNvSpPr/>
          <p:nvPr/>
        </p:nvSpPr>
        <p:spPr>
          <a:xfrm>
            <a:off x="5372280" y="6505560"/>
            <a:ext cx="36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0"/>
          <p:cNvSpPr/>
          <p:nvPr/>
        </p:nvSpPr>
        <p:spPr>
          <a:xfrm>
            <a:off x="5608800" y="6505560"/>
            <a:ext cx="43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.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1"/>
          <p:cNvSpPr/>
          <p:nvPr/>
        </p:nvSpPr>
        <p:spPr>
          <a:xfrm>
            <a:off x="5888160" y="6508800"/>
            <a:ext cx="43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3"/>
          <p:cNvSpPr/>
          <p:nvPr/>
        </p:nvSpPr>
        <p:spPr>
          <a:xfrm>
            <a:off x="22320" y="6851520"/>
            <a:ext cx="68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Figure S6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2:17:16Z</dcterms:created>
  <dc:creator>Yong-Sun/Bahn SUN</dc:creator>
  <dc:description/>
  <dc:language>en-US</dc:language>
  <cp:lastModifiedBy>Potts, Nathaniel</cp:lastModifiedBy>
  <cp:lastPrinted>2009-02-12T04:57:43Z</cp:lastPrinted>
  <dcterms:modified xsi:type="dcterms:W3CDTF">2014-05-14T02:48:40Z</dcterms:modified>
  <cp:revision>89</cp:revision>
  <dc:subject/>
  <dc:title>PowerPoint Presentation</dc:title>
</cp:coreProperties>
</file>