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46F-7C9F-4BBD-9110-EE942F08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DC46-E0B8-4C83-A478-3F851C40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C709-FCF4-414A-9DAA-A7747250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7E8F-57EB-45D4-9340-279F33EC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723E-0B05-47CB-841F-DF5380FE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1B3-66C5-4BE3-AA07-36106B39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290-4075-4712-B0AC-2B650CB7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313-991A-4768-8D8F-2CBF9C26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696-CA3B-4C76-BE8A-22D30154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9C72-4700-403B-9CC7-ECFB5AE9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7EE0-7A99-4E0C-8AF3-0E064ECA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21A9-6652-48D5-B01F-D753D08F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32C2-0D3D-464F-9A6A-119A46EB2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2600280" y="895320"/>
            <a:ext cx="83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맑은 고딕"/>
              </a:rPr>
              <a:t>H99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1515960" y="89532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맑은 고딕"/>
              </a:rPr>
              <a:t>H99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4414680" y="2935440"/>
            <a:ext cx="6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맑은 고딕"/>
              </a:rPr>
              <a:t>H99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17840" y="2938320"/>
            <a:ext cx="73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맑은 고딕"/>
              </a:rPr>
              <a:t>H99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2496960" y="2938320"/>
            <a:ext cx="73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맑은 고딕"/>
              </a:rPr>
              <a:t>H99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1405080" y="2936880"/>
            <a:ext cx="103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맑은 고딕"/>
              </a:rPr>
              <a:t>H99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3487680" y="89532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맑은 고딕"/>
              </a:rPr>
              <a:t>KN99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맑은 고딕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32320" y="89532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맑은 고딕"/>
              </a:rPr>
              <a:t>KN9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맑은 고딕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" descr=""/>
          <p:cNvPicPr/>
          <p:nvPr/>
        </p:nvPicPr>
        <p:blipFill>
          <a:blip r:embed="rId1"/>
          <a:srcRect l="27343" t="24868" r="34900" b="24359"/>
          <a:stretch/>
        </p:blipFill>
        <p:spPr>
          <a:xfrm>
            <a:off x="1494000" y="110808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50" name="그림 2" descr=""/>
          <p:cNvPicPr/>
          <p:nvPr/>
        </p:nvPicPr>
        <p:blipFill>
          <a:blip r:embed="rId2"/>
          <a:srcRect l="25231" t="29906" r="31116" b="11385"/>
          <a:stretch/>
        </p:blipFill>
        <p:spPr>
          <a:xfrm>
            <a:off x="3340080" y="110808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51" name="그림 3" descr=""/>
          <p:cNvPicPr/>
          <p:nvPr/>
        </p:nvPicPr>
        <p:blipFill>
          <a:blip r:embed="rId3"/>
          <a:srcRect l="22562" t="25193" r="34232" b="16390"/>
          <a:stretch/>
        </p:blipFill>
        <p:spPr>
          <a:xfrm>
            <a:off x="2416320" y="110808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52" name="그림 4" descr=""/>
          <p:cNvPicPr/>
          <p:nvPr/>
        </p:nvPicPr>
        <p:blipFill>
          <a:blip r:embed="rId4"/>
          <a:srcRect l="13311" t="29096" r="36799" b="3915"/>
          <a:stretch/>
        </p:blipFill>
        <p:spPr>
          <a:xfrm>
            <a:off x="4264200" y="204300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53" name="그림 5" descr=""/>
          <p:cNvPicPr/>
          <p:nvPr/>
        </p:nvPicPr>
        <p:blipFill>
          <a:blip r:embed="rId5"/>
          <a:srcRect l="16365" t="31212" r="38427" b="8275"/>
          <a:stretch/>
        </p:blipFill>
        <p:spPr>
          <a:xfrm>
            <a:off x="1494000" y="204300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54" name="그림 6" descr=""/>
          <p:cNvPicPr/>
          <p:nvPr/>
        </p:nvPicPr>
        <p:blipFill>
          <a:blip r:embed="rId6"/>
          <a:srcRect l="11747" t="25277" r="36803" b="7064"/>
          <a:stretch/>
        </p:blipFill>
        <p:spPr>
          <a:xfrm>
            <a:off x="2416320" y="204300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55" name="그림 7" descr=""/>
          <p:cNvPicPr/>
          <p:nvPr/>
        </p:nvPicPr>
        <p:blipFill>
          <a:blip r:embed="rId7"/>
          <a:srcRect l="19435" t="22699" r="32610" b="12590"/>
          <a:stretch/>
        </p:blipFill>
        <p:spPr>
          <a:xfrm>
            <a:off x="3340080" y="204300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56" name="그림 8" descr=""/>
          <p:cNvPicPr/>
          <p:nvPr/>
        </p:nvPicPr>
        <p:blipFill>
          <a:blip r:embed="rId8"/>
          <a:srcRect l="19526" t="29072" r="33806" b="9255"/>
          <a:stretch/>
        </p:blipFill>
        <p:spPr>
          <a:xfrm>
            <a:off x="4264200" y="1108080"/>
            <a:ext cx="900000" cy="900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9"/>
          <p:cNvSpPr/>
          <p:nvPr/>
        </p:nvSpPr>
        <p:spPr>
          <a:xfrm>
            <a:off x="433440" y="4024440"/>
            <a:ext cx="598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Figure S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12:17:16Z</dcterms:created>
  <dc:creator>Yong-Sun/Bahn SUN</dc:creator>
  <dc:description/>
  <dc:language>en-US</dc:language>
  <cp:lastModifiedBy>Potts, Nathaniel</cp:lastModifiedBy>
  <cp:lastPrinted>2009-02-12T04:57:43Z</cp:lastPrinted>
  <dcterms:modified xsi:type="dcterms:W3CDTF">2014-05-14T02:49:20Z</dcterms:modified>
  <cp:revision>71</cp:revision>
  <dc:subject/>
  <dc:title>PowerPoint Presentation</dc:title>
</cp:coreProperties>
</file>