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23B-4D21-42D1-820D-49203792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0B5-38F8-4F71-9867-DAEDD0DC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FF6-AF3F-4A5B-A466-833E91EE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39A-0F69-4B15-8F62-A21A30B6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18D-5192-4358-8294-114A94E4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F96-6AC1-49C0-832F-4DFF26D1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739-5672-47B1-AE50-9F728745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0FE-77E9-4E06-BAE5-06BE3B03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1F8-3FC7-4D11-A204-2276200F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5E7-0AA7-4E9F-BDB0-3BF3EE6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425-14D9-45C5-ACDF-45AC926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0EE-A634-4C28-A6A9-2BDF4A3C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FD02-4932-4952-A2D9-3AB264E0E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2600280" y="895320"/>
            <a:ext cx="83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1515960" y="8953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414680" y="2935440"/>
            <a:ext cx="6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17840" y="293832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496960" y="2938320"/>
            <a:ext cx="7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405080" y="2936880"/>
            <a:ext cx="103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H99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487680" y="8953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KN99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32320" y="8953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KN9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맑은 고딕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" descr=""/>
          <p:cNvPicPr/>
          <p:nvPr/>
        </p:nvPicPr>
        <p:blipFill>
          <a:blip r:embed="rId1"/>
          <a:srcRect l="27343" t="24868" r="34900" b="24359"/>
          <a:stretch/>
        </p:blipFill>
        <p:spPr>
          <a:xfrm>
            <a:off x="1494000" y="110808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2" descr=""/>
          <p:cNvPicPr/>
          <p:nvPr/>
        </p:nvPicPr>
        <p:blipFill>
          <a:blip r:embed="rId2"/>
          <a:srcRect l="25231" t="29906" r="31116" b="11385"/>
          <a:stretch/>
        </p:blipFill>
        <p:spPr>
          <a:xfrm>
            <a:off x="3340080" y="110808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그림 3" descr=""/>
          <p:cNvPicPr/>
          <p:nvPr/>
        </p:nvPicPr>
        <p:blipFill>
          <a:blip r:embed="rId3"/>
          <a:srcRect l="22562" t="25193" r="34232" b="16390"/>
          <a:stretch/>
        </p:blipFill>
        <p:spPr>
          <a:xfrm>
            <a:off x="2416320" y="110808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52" name="그림 4" descr=""/>
          <p:cNvPicPr/>
          <p:nvPr/>
        </p:nvPicPr>
        <p:blipFill>
          <a:blip r:embed="rId4"/>
          <a:srcRect l="13311" t="29096" r="36799" b="3915"/>
          <a:stretch/>
        </p:blipFill>
        <p:spPr>
          <a:xfrm>
            <a:off x="4264200" y="2043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3" name="그림 5" descr=""/>
          <p:cNvPicPr/>
          <p:nvPr/>
        </p:nvPicPr>
        <p:blipFill>
          <a:blip r:embed="rId5"/>
          <a:srcRect l="16365" t="31212" r="38427" b="8275"/>
          <a:stretch/>
        </p:blipFill>
        <p:spPr>
          <a:xfrm>
            <a:off x="1494000" y="2043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4" name="그림 6" descr=""/>
          <p:cNvPicPr/>
          <p:nvPr/>
        </p:nvPicPr>
        <p:blipFill>
          <a:blip r:embed="rId6"/>
          <a:srcRect l="11747" t="25277" r="36803" b="7064"/>
          <a:stretch/>
        </p:blipFill>
        <p:spPr>
          <a:xfrm>
            <a:off x="2416320" y="2043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5" name="그림 7" descr=""/>
          <p:cNvPicPr/>
          <p:nvPr/>
        </p:nvPicPr>
        <p:blipFill>
          <a:blip r:embed="rId7"/>
          <a:srcRect l="19435" t="22699" r="32610" b="12590"/>
          <a:stretch/>
        </p:blipFill>
        <p:spPr>
          <a:xfrm>
            <a:off x="3340080" y="2043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6" name="그림 8" descr=""/>
          <p:cNvPicPr/>
          <p:nvPr/>
        </p:nvPicPr>
        <p:blipFill>
          <a:blip r:embed="rId8"/>
          <a:srcRect l="19526" t="29072" r="33806" b="9255"/>
          <a:stretch/>
        </p:blipFill>
        <p:spPr>
          <a:xfrm>
            <a:off x="4264200" y="110808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9"/>
          <p:cNvSpPr/>
          <p:nvPr/>
        </p:nvSpPr>
        <p:spPr>
          <a:xfrm>
            <a:off x="433440" y="4024440"/>
            <a:ext cx="598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Figure S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2:17:16Z</dcterms:created>
  <dc:creator>Yong-Sun/Bahn SUN</dc:creator>
  <dc:description/>
  <dc:language>en-US</dc:language>
  <cp:lastModifiedBy>Potts, Nathaniel</cp:lastModifiedBy>
  <cp:lastPrinted>2009-02-12T04:57:43Z</cp:lastPrinted>
  <dcterms:modified xsi:type="dcterms:W3CDTF">2014-05-14T02:49:20Z</dcterms:modified>
  <cp:revision>71</cp:revision>
  <dc:subject/>
  <dc:title>PowerPoint Presentation</dc:title>
</cp:coreProperties>
</file>