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F7C7-61DB-4B36-8414-4A0F5ED1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6FB6-0774-4516-8EF6-64B2C336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DD96-97BF-4576-8868-0EC126C8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99F9-8DD1-4574-945C-0350CF24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F7E2-95B4-4A8D-9E68-AEBD6F55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9F15-5D30-4833-9E1C-CF410D8D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A450-8CF9-47C9-B12A-21A266F8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9460-5769-439C-BE31-DDC78179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8F22-7BC5-4C0C-8E3C-84DF7C42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47CC-7A0B-4A31-82B0-2BC67E4F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AE05-033A-48C2-B438-3C85AD28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B0E2-D7BC-4DBB-A3C2-ABB4A82B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E003-1CAC-445C-A0B0-B3E041A4A18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-5415120" y="2465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666720" y="-38160"/>
            <a:ext cx="61912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igure S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SupplementaryData-Figure8-aligned"/>
          <p:cNvPicPr/>
          <p:nvPr/>
        </p:nvPicPr>
        <p:blipFill>
          <a:blip r:embed="rId1"/>
          <a:stretch/>
        </p:blipFill>
        <p:spPr>
          <a:xfrm>
            <a:off x="73080" y="1512720"/>
            <a:ext cx="6669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10:20:20Z</dcterms:created>
  <dc:creator>IP</dc:creator>
  <dc:description/>
  <dc:language>en-US</dc:language>
  <cp:lastModifiedBy>Potts, Nathaniel</cp:lastModifiedBy>
  <dcterms:modified xsi:type="dcterms:W3CDTF">2014-05-14T02:50:01Z</dcterms:modified>
  <cp:revision>14</cp:revision>
  <dc:subject/>
  <dc:title>Diapositive 1</dc:title>
</cp:coreProperties>
</file>