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7DA-F06D-44E2-BFB9-61E23F9F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3C51-E4AE-4200-B431-5BA63FEA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BF4-69C2-48F0-8539-D141A73F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B870-6A99-4E8C-B466-D6C9EDE1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8ECC-0747-47BF-88CD-5B14D3E9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DCC3-82B7-481D-BCAE-66BE6E46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D09-36FB-40EB-89AD-AE4F4BC6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845-DC05-417C-BD4A-51E33324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10B-2081-4C6E-84FF-CB731403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73B7-405C-42E0-ACEE-1AD4AF29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DEF-4E9C-4F56-99BE-9245C6B6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4662-F5DE-4DF7-9310-618AC8A4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573E-8EF5-4725-8A85-AE1BD3E296A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-5415120" y="2465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666720" y="-38160"/>
            <a:ext cx="61912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igure S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SupplementaryData-Figure8-aligned"/>
          <p:cNvPicPr/>
          <p:nvPr/>
        </p:nvPicPr>
        <p:blipFill>
          <a:blip r:embed="rId1"/>
          <a:stretch/>
        </p:blipFill>
        <p:spPr>
          <a:xfrm>
            <a:off x="73080" y="1512720"/>
            <a:ext cx="6669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0:20:20Z</dcterms:created>
  <dc:creator>IP</dc:creator>
  <dc:description/>
  <dc:language>en-US</dc:language>
  <cp:lastModifiedBy>Potts, Nathaniel</cp:lastModifiedBy>
  <dcterms:modified xsi:type="dcterms:W3CDTF">2014-05-14T02:50:01Z</dcterms:modified>
  <cp:revision>14</cp:revision>
  <dc:subject/>
  <dc:title>Diapositive 1</dc:title>
</cp:coreProperties>
</file>