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FEB-ACB3-4663-AA71-E99D377C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1B1-4689-4798-BA0F-BEEF102C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91E-0E9E-4130-9528-30436F77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543-C4A3-40A9-839A-EE3B35A5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634-C03D-40BD-B877-0629E912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4C4-5FAB-4A84-8E98-D1D38AD3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DB2-6C69-4134-BA3A-67981CED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737-A5DF-4FD0-B3E8-8A8435D5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387-2FFF-4B0E-B098-5ECF43B4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3B9-54A6-42AD-B4CA-5818D851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AC8-E743-416D-8C6F-E922F490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36C-B22B-4B74-8576-0F933C84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1E2B-E03C-49CD-84B1-DF46128F92C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-5565600" y="19890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5840" y="6372360"/>
            <a:ext cx="68421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gure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SupplementaryData-Figure9"/>
          <p:cNvPicPr/>
          <p:nvPr/>
        </p:nvPicPr>
        <p:blipFill>
          <a:blip r:embed="rId1"/>
          <a:stretch/>
        </p:blipFill>
        <p:spPr>
          <a:xfrm>
            <a:off x="138240" y="755640"/>
            <a:ext cx="653076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0:22:49Z</dcterms:created>
  <dc:creator>IP</dc:creator>
  <dc:description/>
  <dc:language>en-US</dc:language>
  <cp:lastModifiedBy>Potts, Nathaniel</cp:lastModifiedBy>
  <dcterms:modified xsi:type="dcterms:W3CDTF">2014-05-14T02:50:43Z</dcterms:modified>
  <cp:revision>13</cp:revision>
  <dc:subject/>
  <dc:title>Diapositive 1</dc:title>
</cp:coreProperties>
</file>