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0F8-A464-46A5-85A4-BCAE5733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5AF-EBD1-4EEC-8F38-293F467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A83-E31D-4B13-B3E1-FBFDF3D8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45B-85D1-4AF4-8942-0EB58B38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DCC-6106-4E97-99AA-0BB5FA75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3D5-DEFB-4400-9F53-EFDF9DB6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992-7FC9-4A7E-B3BE-E5CAB784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33B-3B07-4D99-A8B7-39392CE2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9FF-8184-416E-868F-CC831D2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99B-68F8-4B77-AA0E-1A69EA6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47C-D8C6-480F-89F6-7BA511B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9CA-E5FE-4E04-B2E4-FBC345F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521E-A05A-44F0-A7A4-C2D68DEFDA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-5565600" y="198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5840" y="6372360"/>
            <a:ext cx="6842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SupplementaryData-Figure9"/>
          <p:cNvPicPr/>
          <p:nvPr/>
        </p:nvPicPr>
        <p:blipFill>
          <a:blip r:embed="rId1"/>
          <a:stretch/>
        </p:blipFill>
        <p:spPr>
          <a:xfrm>
            <a:off x="138240" y="755640"/>
            <a:ext cx="653076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0:22:49Z</dcterms:created>
  <dc:creator>IP</dc:creator>
  <dc:description/>
  <dc:language>en-US</dc:language>
  <cp:lastModifiedBy>Potts, Nathaniel</cp:lastModifiedBy>
  <dcterms:modified xsi:type="dcterms:W3CDTF">2014-05-14T02:50:43Z</dcterms:modified>
  <cp:revision>13</cp:revision>
  <dc:subject/>
  <dc:title>Diapositive 1</dc:title>
</cp:coreProperties>
</file>