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3E2-A86D-4200-B699-34EFFCA1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E59-B633-46B4-905A-BAB05E4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ED0-EE51-4543-91DE-8350B299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991-8DC4-4646-B698-0AA990C9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7A6-8483-4EBA-8595-1FCFA2C7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644-705D-4384-B783-C35F386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1BB-8D85-4823-8BF6-10501F31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054-31F3-4201-B4B7-A97F8C0F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C1F-E24A-4990-A947-AF4E85C3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55D-F139-4094-83CA-97B9F92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7EB-121E-4762-A07F-AB576780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68B-9AED-4C33-8867-E767BFD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064-2A1C-4B28-B9B3-5521728AB9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31000" y="5240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471600" y="684360"/>
            <a:ext cx="2670120" cy="417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357720" y="684360"/>
            <a:ext cx="329076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3284640" y="53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941720" y="539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9920" y="36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051000" y="36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0:38:50Z</dcterms:created>
  <dc:creator>IP</dc:creator>
  <dc:description/>
  <dc:language>en-US</dc:language>
  <cp:lastModifiedBy>Potts, Nathaniel</cp:lastModifiedBy>
  <dcterms:modified xsi:type="dcterms:W3CDTF">2014-05-14T02:51:24Z</dcterms:modified>
  <cp:revision>6</cp:revision>
  <dc:subject/>
  <dc:title>Diapositive 1</dc:title>
</cp:coreProperties>
</file>