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FF6-16B7-4FBB-A80A-02542970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B8C-6242-4764-A7AE-26335DC3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736-5513-494A-BB3B-87C1586C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82A-E7E5-4CA6-81D7-A51755FE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419-1B11-4589-B4FA-D300D776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148-54F3-4E33-8638-07B89738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2E6-6DE0-4318-AA42-01A6CD6A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1B4-0A36-4054-AA4C-9989D79B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6FC-EA79-4849-80E9-D0F720C7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F4B-650E-4F89-9445-EE832A7A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7AA-DF50-45F3-934C-C30DC4D0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FC7-31A9-4DEA-8E52-90994AC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F003-7557-4446-9B64-C36390F4A7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31000" y="5240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471600" y="684360"/>
            <a:ext cx="2670120" cy="417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357720" y="684360"/>
            <a:ext cx="3290760" cy="3457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3284640" y="53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941720" y="539640"/>
            <a:ext cx="3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9920" y="36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051000" y="36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0:38:50Z</dcterms:created>
  <dc:creator>IP</dc:creator>
  <dc:description/>
  <dc:language>en-US</dc:language>
  <cp:lastModifiedBy>Potts, Nathaniel</cp:lastModifiedBy>
  <dcterms:modified xsi:type="dcterms:W3CDTF">2014-05-14T02:51:24Z</dcterms:modified>
  <cp:revision>6</cp:revision>
  <dc:subject/>
  <dc:title>Diapositive 1</dc:title>
</cp:coreProperties>
</file>